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C00-A708-4FF2-96C6-2980C3B0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E14-F117-4BDC-9C4E-2B61537E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everyone, I hope everyone had a good week. By a show many of you have ever really used an application with a horrible interface? [hands]  Today we’re going to talk about what makes a great visual interface. So we’re going to start out by developing our own criteria for usability by comparing a few interfaces everyone has probably seen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89A-8DB2-4E7D-9A1E-979A7CB8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C67-5983-4EF8-A5BA-C7CB7306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g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ertop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ordering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ning for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control for cont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EA5B-3882-47DF-8476-59C640FF5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D0B-8CD0-46F8-805B-E197201C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usable are the following interfa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fine-grained UI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of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of document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larity- extra info with email number and fil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target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umbia University students and faculty, possibly with little CS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users would have trouble navigating the interfa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derly (small font), small children- lot of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A479-76E7-4742-8F4B-60D3870F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compare Cubmail to another popular email client. What differences do you see with this inte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arch box makes search much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bels allow for simple categ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ew emails visually very distinct (bold, white stripe backgr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common actions aggregated in a drop dow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sy to flag an email with th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ll organized 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users would have trouble navigating the interfa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200-629F-4AAC-937A-9C081841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 that you all are familiar with the concept of critiquing interfaces, let’s critique another type of interface: MP3 play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features make the Classic iPod and iPod touch more us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: wheel and 4 buttons. Very clean interface, but user doesn’t have much control beyond scrolling through m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imited user control makes the device more usable for a wider audience (ex: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acrifices were made as a result of these interface cho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has much more control with the touch- might be slightly harder to use for some people- more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simple interface- one home button, on/off switch, volum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expensive to include a touch interface than a scroll bar, but user has subjectively better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ata do the following examples sh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echniques do they use to show relationships between thing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or (heat m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ore important things indic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ight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s do color, size, and layout of things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the interface. How would you make it better? – use gradient and only label major hotspo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shows the most popular tags on Yahoo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mportant or popular tags indicated by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? – THIS IS BORING. C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uccinctly represents the complex evolutionary relationship between hundreds of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? What would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03AA-2796-4129-B8E4-FA2759E0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BB6-C6D8-4AB2-8065-58A959F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D3D-82A8-4A9D-A4E7-0ED0AE3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8E1-0797-43B0-82E7-F0AC41F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D21-85C8-4D1D-9148-AD91A6A7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CA1-F813-4A3E-897D-F500840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9C1-ED9A-44E8-83F4-71465311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AEF-6149-40C7-8B0A-5B07FC16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6D4-597D-452A-B735-4A008ED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03D-ECAF-4029-BE86-D8BADF5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E67-B5F5-407D-9ED0-212AD95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58D-C6E0-4C23-90F2-CAF7D08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01E-1B51-4DE4-AF27-13E5DD5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2D5-0853-48CB-8726-AB6679B11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bility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Computer Interactio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Interface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86712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39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phone Keyp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85880" cy="263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286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kinecthacks.com/kinect-orchestra-moti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ed.com/talks/johnny_lee_demos_wii_remote_hack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I in the real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redesign your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InfoViz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: http://flare.prefuse.org/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research.microsoft.com/en-us/projects/msa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533520"/>
          <a:ext cx="815184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184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kristen.WIN-CS\Desktop\gmai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rcRect l="0" t="0" r="2941" b="15191"/>
          <a:stretch/>
        </p:blipFill>
        <p:spPr>
          <a:xfrm>
            <a:off x="350532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2914560" cy="476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rcRect l="16005" t="0" r="8800" b="0"/>
          <a:stretch/>
        </p:blipFill>
        <p:spPr>
          <a:xfrm>
            <a:off x="5334120" y="1066680"/>
            <a:ext cx="3581280" cy="4753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users to explore and understand large amounts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s abstract information intu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orts of applications require efficient information visualiza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hicago_violent_crime_map.png"/>
          <p:cNvPicPr/>
          <p:nvPr/>
        </p:nvPicPr>
        <p:blipFill>
          <a:blip r:embed="rId1"/>
          <a:stretch/>
        </p:blipFill>
        <p:spPr>
          <a:xfrm>
            <a:off x="1447920" y="903240"/>
            <a:ext cx="6400800" cy="5702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3962520" y="658188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mmons.wikimedia.org/wiki/File:Chicago_violent_crime_map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 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kristen.WIN-CS\Desktop\flickr.PNG"/>
          <p:cNvPicPr/>
          <p:nvPr/>
        </p:nvPicPr>
        <p:blipFill>
          <a:blip r:embed="rId1"/>
          <a:stretch/>
        </p:blipFill>
        <p:spPr>
          <a:xfrm>
            <a:off x="533520" y="914400"/>
            <a:ext cx="8280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23920" y="594324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lweb.org/tree/phylogen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000px-Tree_of_life_SVG.svg.png"/>
          <p:cNvPicPr/>
          <p:nvPr/>
        </p:nvPicPr>
        <p:blipFill>
          <a:blip r:embed="rId1"/>
          <a:stretch/>
        </p:blipFill>
        <p:spPr>
          <a:xfrm>
            <a:off x="152280" y="838080"/>
            <a:ext cx="5639040" cy="5639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Tree_of_life_SVG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791320" y="1219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logeny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icts how similar different spec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Block Arc 11"/>
          <p:cNvSpPr/>
          <p:nvPr/>
        </p:nvSpPr>
        <p:spPr>
          <a:xfrm>
            <a:off x="0" y="762120"/>
            <a:ext cx="5867280" cy="5410080"/>
          </a:xfrm>
          <a:prstGeom prst="pi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3"/>
          <p:cNvSpPr/>
          <p:nvPr/>
        </p:nvSpPr>
        <p:spPr>
          <a:xfrm>
            <a:off x="2514600" y="762120"/>
            <a:ext cx="3276720" cy="2819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4"/>
          <p:cNvSpPr/>
          <p:nvPr/>
        </p:nvSpPr>
        <p:spPr>
          <a:xfrm>
            <a:off x="1676520" y="1066680"/>
            <a:ext cx="4114800" cy="4114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6"/>
          <p:cNvSpPr/>
          <p:nvPr/>
        </p:nvSpPr>
        <p:spPr>
          <a:xfrm>
            <a:off x="2819520" y="2362320"/>
            <a:ext cx="6324480" cy="1143000"/>
          </a:xfrm>
          <a:prstGeom prst="line">
            <a:avLst/>
          </a:prstGeom>
          <a:ln w="25560">
            <a:solidFill>
              <a:srgbClr val="3333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9"/>
          <p:cNvSpPr/>
          <p:nvPr/>
        </p:nvSpPr>
        <p:spPr>
          <a:xfrm>
            <a:off x="2438280" y="2514600"/>
            <a:ext cx="6705720" cy="2666880"/>
          </a:xfrm>
          <a:prstGeom prst="line">
            <a:avLst/>
          </a:prstGeom>
          <a:ln w="25560">
            <a:solidFill>
              <a:srgbClr val="3333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2000px-Tree_of_life_SVG.svg.png"/>
          <p:cNvPicPr/>
          <p:nvPr/>
        </p:nvPicPr>
        <p:blipFill>
          <a:blip r:embed="rId2"/>
          <a:srcRect l="33422" t="2833" r="54686" b="72245"/>
          <a:stretch/>
        </p:blipFill>
        <p:spPr>
          <a:xfrm rot="16200000">
            <a:off x="6667560" y="2704680"/>
            <a:ext cx="1600200" cy="3352680"/>
          </a:xfrm>
          <a:prstGeom prst="rect">
            <a:avLst/>
          </a:prstGeom>
          <a:ln w="28440">
            <a:solidFill>
              <a:srgbClr val="2d2d8a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55:45Z</dcterms:created>
  <dc:creator>Arthi Ramachandran</dc:creator>
  <dc:description/>
  <cp:keywords/>
  <dc:language>en-US</dc:language>
  <cp:lastModifiedBy>Arthi Ramachandran</cp:lastModifiedBy>
  <dcterms:modified xsi:type="dcterms:W3CDTF">2011-04-01T00:58:18Z</dcterms:modified>
  <cp:revision>86</cp:revision>
  <dc:subject/>
  <dc:title>Usability</dc:title>
</cp:coreProperties>
</file>