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-3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96360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CC838B-6556-4D31-9DBB-F1DCDB019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F32C0B-BE92-4E04-8587-E3B8BEBB2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9E9F3E-1CD9-4384-B85C-6BC10EE4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0C8458-9E64-4FF3-8F5C-D530175A5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B9FED1-55F4-4294-AA06-FCF95599C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19B554-2856-44B2-86B6-FDF16C8CE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D6BF15-409B-4C1D-A35E-38DB14B16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F0AA98-9D35-4F36-9016-D73ED930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FE471E-5439-4DDF-91E8-E7C393DDA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EB6EFB-8EE5-4332-AECA-B65375AD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E83F20-1A9E-4AAE-AF64-DBE76F401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1AB5C6-1DCA-4374-9A25-3815C05A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B934BB-B6F0-447D-8D4E-1830A50DC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B42D94-7D22-4A45-816A-9CB66E309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9994B0-3BF7-43A3-A078-DE826DE0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656CDA-F530-45D6-99E4-8E8CA779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C82B61-1A03-4CF5-A425-A89662143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44EAB7-B7A7-4CBD-AD30-FED07967A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636203-EA86-4501-8C7E-3A06CC57F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C13AD9-02F3-4DB3-9C2E-C2ADCF38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38FC6E-5DB1-4C24-8F77-90EF052EC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DB4930-725F-455E-9684-662541BB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9D58C7-2EFC-4F43-9DF6-195012BE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8D5C5B-CBE4-45A3-87A1-541F6252D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B43636-FD1A-41A3-88AA-6440E335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08EDA0-8509-4E7C-8E22-14802D40C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2344B1-104C-4DF5-B8DB-B2A1861B3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8E2405-2092-421D-AA72-3C8ECE9FE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8AF098-1CA5-460B-AE37-677B26263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5F5CE9-0215-477A-AB2D-682561382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333702-3592-4EE1-82F1-C18DFCDE4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B54B0B-13F0-4032-9635-0E41429D8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5FF264-C9F2-4768-8760-E8371B0C3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48B4BA-3D90-4126-BDC6-3D26721A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B89104-24E8-497C-8B5F-167015CC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9C78EF-BAC9-4AC2-AA0B-151575177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9417-D9FD-4C3A-9465-2E352D82A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CC32-B54E-4727-A15B-312E62FC9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2A28-9A19-4133-8B63-50800E59A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13A6-6456-491A-8ABE-405521C2B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CB95-56A9-4113-A1A7-73B03C296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D512-C3CF-4D30-81D9-0ADEA35E2C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A833-1072-4BF4-B65A-44C43504B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56F3-8F46-4F38-A49E-51F6C9B4B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5238-E174-47E2-A179-EDCC23EFD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A64C-B47D-4F2F-BEA3-49510DC3E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F38E-391B-4AA3-8095-C4B7F77FB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34CD-B558-4419-84D9-33FFB6B69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file:///C:/Documents%20and%20Settings/kristen/Desktop/cscu.jpg"/>
          <p:cNvPicPr/>
          <p:nvPr/>
        </p:nvPicPr>
        <p:blipFill>
          <a:blip r:embed="rId2"/>
          <a:stretch/>
        </p:blipFill>
        <p:spPr>
          <a:xfrm>
            <a:off x="304920" y="304920"/>
            <a:ext cx="952560" cy="77148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58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CFF5-7FA4-4B42-9344-7BE7A557D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sp.gatech.edu/games/tspOnePlayer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sp.gatech.edu/sweden/tours/anim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laymath.org/millennium/P_vs_NP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305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hard is it to solve a problem?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90720" y="54100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fore computers became commercially available, the term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literally meant "one who computes": a person performing mathematical calcul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766px-Human_computers_-_Dryden"/>
          <p:cNvPicPr/>
          <p:nvPr/>
        </p:nvPicPr>
        <p:blipFill>
          <a:blip r:embed="rId1"/>
          <a:stretch/>
        </p:blipFill>
        <p:spPr>
          <a:xfrm>
            <a:off x="2209680" y="2114640"/>
            <a:ext cx="3867120" cy="302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logo"/>
          <p:cNvPicPr/>
          <p:nvPr/>
        </p:nvPicPr>
        <p:blipFill>
          <a:blip r:embed="rId2"/>
          <a:stretch/>
        </p:blipFill>
        <p:spPr>
          <a:xfrm>
            <a:off x="457200" y="685800"/>
            <a:ext cx="1162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3F1D-2DA5-4234-A208-B4051C32E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6 possible rout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371600"/>
          <a:ext cx="8229600" cy="4726080"/>
        </p:xfrm>
        <a:graphic>
          <a:graphicData uri="http://schemas.openxmlformats.org/drawingml/2006/table">
            <a:tbl>
              <a:tblPr/>
              <a:tblGrid>
                <a:gridCol w="828720"/>
                <a:gridCol w="1233360"/>
                <a:gridCol w="1233720"/>
                <a:gridCol w="1233360"/>
                <a:gridCol w="1233360"/>
                <a:gridCol w="1233720"/>
                <a:gridCol w="12333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F23-8108-47FF-BC5C-898862A92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Efficiently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ps! You also have to drop by University Housewares to pick up a baking 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ow much harder is the problem with four errands instead of th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67080" y="1371600"/>
          <a:ext cx="4419720" cy="5181480"/>
        </p:xfrm>
        <a:graphic>
          <a:graphicData uri="http://schemas.openxmlformats.org/drawingml/2006/table">
            <a:tbl>
              <a:tblPr/>
              <a:tblGrid>
                <a:gridCol w="736560"/>
                <a:gridCol w="765360"/>
                <a:gridCol w="708120"/>
                <a:gridCol w="736560"/>
                <a:gridCol w="736560"/>
                <a:gridCol w="7365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F713-2276-4BE5-B207-9F78F6085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8915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762120" y="914400"/>
          <a:ext cx="75708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5708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907E-2E71-4ABC-A73D-D58469BC2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Efficiently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8" name="Object 909"/>
          <p:cNvGraphicFramePr/>
          <p:nvPr/>
        </p:nvGraphicFramePr>
        <p:xfrm>
          <a:off x="1847880" y="1581120"/>
          <a:ext cx="544824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9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1581120"/>
                    <a:ext cx="54482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FFC4-0B92-4131-BC5A-5B5D8BED1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Efficiently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 general, if you have N errands, how many possible different ways are there to run all your err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raveling Salesman Problem (TSP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AA3F-1C8A-402C-B429-752376EDB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raveling Salesman Problem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list of cities and the costs of traveling from any city to any other city, what is the least-cost round-trip route that visits each city exactly once and then returns to the starting 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ow is this simila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problem of ru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rra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C:\Documents and Settings\kristen.WIN-CS\Desktop\usapoints.jpg"/>
          <p:cNvPicPr/>
          <p:nvPr/>
        </p:nvPicPr>
        <p:blipFill>
          <a:blip r:embed="rId1"/>
          <a:stretch/>
        </p:blipFill>
        <p:spPr>
          <a:xfrm>
            <a:off x="4114800" y="3124080"/>
            <a:ext cx="49230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1165-95EE-457B-B999-132ABDE2E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it take to find all possible ro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lgorithm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29000" y="39625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xkcd.com/39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3" descr="tsp"/>
          <p:cNvPicPr/>
          <p:nvPr/>
        </p:nvPicPr>
        <p:blipFill>
          <a:blip r:embed="rId1"/>
          <a:stretch/>
        </p:blipFill>
        <p:spPr>
          <a:xfrm>
            <a:off x="1789200" y="1371600"/>
            <a:ext cx="5564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C1A9-7235-4A8D-9D5A-2D337636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52280" y="2895480"/>
            <a:ext cx="8610840" cy="19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raveling Salesman Problem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280" y="1676520"/>
          <a:ext cx="8596440" cy="384804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1052640"/>
                <a:gridCol w="2529000"/>
                <a:gridCol w="11286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ities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te Force (N!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algorithm (N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98"/>
          <p:cNvSpPr/>
          <p:nvPr/>
        </p:nvSpPr>
        <p:spPr>
          <a:xfrm>
            <a:off x="533520" y="594360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computer can calculate the cos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ill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s per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a calculato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2D69-5F49-4CDC-8B83-68C09CF8D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raveling Salesman Problem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280" y="1676520"/>
          <a:ext cx="8596440" cy="384804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357200"/>
                <a:gridCol w="2224080"/>
                <a:gridCol w="14335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ities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te Force (N!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Algorithm (N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82,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3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87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3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 *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88"/>
          <p:cNvSpPr/>
          <p:nvPr/>
        </p:nvSpPr>
        <p:spPr>
          <a:xfrm>
            <a:off x="533520" y="594360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computer can calculate the cos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ill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s per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a calculato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552-889C-4BE4-9F7A-D44A01DC6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Gulim"/>
              </a:rPr>
              <a:t>Checking TSP Solu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ow long does it take to check whether a solution to TSP fits this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Verify that a given path is of length less than or equal to some value K, such that the path visits all ci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at about this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ind the shortest path that visits all ci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BA7A-DBC8-46EB-95C7-C19919EDC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SP in the real worl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, companies like FedEx are satisfied if they can get “reasonably close” to the optim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Tour Finder game to see how close you can 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sp.gatech.edu/games/tspOnePlay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A453-C32E-4525-A987-364D7555B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lving TSP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uristic is used to provide an estimate of the shortest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ute is then refined until a provably-optimal solution i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largest TSPs ever solved includes all 24,978 cities, towns, and villages in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sp.gatech.edu/sweden/tours/anim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Fun with Facebook!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F2A4-7189-4845-A9B5-59F4E769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qu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graph is a group of nodes that are completely inter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ocial network, it could refer to a group of people who are all friends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ther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clique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7660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4779-F546-4D14-8987-0D8840E11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qu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iggest clique in the Simpsons 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make a clique of one size larger by adding just one edge? How about two sizes lar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does it take to check whether a set of nodes forms a cliq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3F8F-1C61-4C86-A25A-56B1E336F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933480" cy="1057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669960" cy="1285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5257800" y="1371600"/>
            <a:ext cx="644400" cy="1033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4"/>
          <a:stretch/>
        </p:blipFill>
        <p:spPr>
          <a:xfrm>
            <a:off x="7620120" y="3048120"/>
            <a:ext cx="1028520" cy="952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iendships on a grap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586880" y="1636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83760" y="3429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573800" y="1905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6937200" y="30481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870160" y="48769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4345920" y="57913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350748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069200" y="5943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 flipH="1">
            <a:off x="1295280" y="19810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990720" y="3809880"/>
            <a:ext cx="6858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 flipV="1">
            <a:off x="2133720" y="60195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4038480" y="3962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1219320" y="3809880"/>
            <a:ext cx="3124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371600" y="36576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057400" y="198108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438280" y="182880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 flipV="1">
            <a:off x="4191120" y="22096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5105520" y="22096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5"/>
          <p:cNvSpPr/>
          <p:nvPr/>
        </p:nvSpPr>
        <p:spPr>
          <a:xfrm flipH="1">
            <a:off x="6400440" y="32767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480024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7" descr=""/>
          <p:cNvPicPr/>
          <p:nvPr/>
        </p:nvPicPr>
        <p:blipFill>
          <a:blip r:embed="rId5"/>
          <a:stretch/>
        </p:blipFill>
        <p:spPr>
          <a:xfrm>
            <a:off x="6705720" y="4876920"/>
            <a:ext cx="745920" cy="838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8" descr=""/>
          <p:cNvPicPr/>
          <p:nvPr/>
        </p:nvPicPr>
        <p:blipFill>
          <a:blip r:embed="rId6"/>
          <a:stretch/>
        </p:blipFill>
        <p:spPr>
          <a:xfrm>
            <a:off x="304920" y="5688000"/>
            <a:ext cx="838080" cy="828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9" descr=""/>
          <p:cNvPicPr/>
          <p:nvPr/>
        </p:nvPicPr>
        <p:blipFill>
          <a:blip r:embed="rId7"/>
          <a:stretch/>
        </p:blipFill>
        <p:spPr>
          <a:xfrm>
            <a:off x="3581280" y="2209680"/>
            <a:ext cx="60336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0" descr=""/>
          <p:cNvPicPr/>
          <p:nvPr/>
        </p:nvPicPr>
        <p:blipFill>
          <a:blip r:embed="rId8"/>
          <a:stretch/>
        </p:blipFill>
        <p:spPr>
          <a:xfrm>
            <a:off x="5029200" y="5653080"/>
            <a:ext cx="768240" cy="1204920"/>
          </a:xfrm>
          <a:prstGeom prst="rect">
            <a:avLst/>
          </a:prstGeom>
          <a:ln w="0">
            <a:noFill/>
          </a:ln>
        </p:spPr>
      </p:pic>
      <p:sp>
        <p:nvSpPr>
          <p:cNvPr id="251" name="Line 31"/>
          <p:cNvSpPr/>
          <p:nvPr/>
        </p:nvSpPr>
        <p:spPr>
          <a:xfrm flipH="1">
            <a:off x="4647960" y="2286000"/>
            <a:ext cx="228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A7D3-8B8B-4637-870C-C3549A8FC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qu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lgorithms for finding cliques of size 3, 4, 5, etc. in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general algorithm for finding the biggest clique in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9F66-598A-432C-A276-DC3963B3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hat’s the largest clique?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78120" y="1527120"/>
            <a:ext cx="9068760" cy="4725720"/>
            <a:chOff x="78120" y="1527120"/>
            <a:chExt cx="9068760" cy="4725720"/>
          </a:xfrm>
        </p:grpSpPr>
        <p:sp>
          <p:nvSpPr>
            <p:cNvPr id="258" name="Text Box 4"/>
            <p:cNvSpPr/>
            <p:nvPr/>
          </p:nvSpPr>
          <p:spPr>
            <a:xfrm>
              <a:off x="2043000" y="1527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"/>
            <p:cNvSpPr/>
            <p:nvPr/>
          </p:nvSpPr>
          <p:spPr>
            <a:xfrm>
              <a:off x="2135520" y="2889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6"/>
            <p:cNvSpPr/>
            <p:nvPr/>
          </p:nvSpPr>
          <p:spPr>
            <a:xfrm>
              <a:off x="3812760" y="186048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7"/>
            <p:cNvSpPr/>
            <p:nvPr/>
          </p:nvSpPr>
          <p:spPr>
            <a:xfrm>
              <a:off x="4879800" y="363852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8"/>
            <p:cNvSpPr/>
            <p:nvPr/>
          </p:nvSpPr>
          <p:spPr>
            <a:xfrm>
              <a:off x="2364120" y="410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"/>
            <p:cNvSpPr/>
            <p:nvPr/>
          </p:nvSpPr>
          <p:spPr>
            <a:xfrm>
              <a:off x="5793840" y="195408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7927200" y="27025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is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1"/>
            <p:cNvSpPr/>
            <p:nvPr/>
          </p:nvSpPr>
          <p:spPr>
            <a:xfrm>
              <a:off x="3507480" y="29833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rri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2"/>
            <p:cNvSpPr/>
            <p:nvPr/>
          </p:nvSpPr>
          <p:spPr>
            <a:xfrm>
              <a:off x="4803120" y="5042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ab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6174720" y="429336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sm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78120" y="3825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840960" y="23281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u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1679040" y="541656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3965400" y="588456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ic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7241040" y="17665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s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9"/>
            <p:cNvSpPr/>
            <p:nvPr/>
          </p:nvSpPr>
          <p:spPr>
            <a:xfrm>
              <a:off x="8004600" y="354492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nelo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0"/>
            <p:cNvSpPr/>
            <p:nvPr/>
          </p:nvSpPr>
          <p:spPr>
            <a:xfrm>
              <a:off x="6555600" y="579096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ti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1"/>
            <p:cNvSpPr/>
            <p:nvPr/>
          </p:nvSpPr>
          <p:spPr>
            <a:xfrm>
              <a:off x="687960" y="50425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2"/>
            <p:cNvSpPr/>
            <p:nvPr/>
          </p:nvSpPr>
          <p:spPr>
            <a:xfrm>
              <a:off x="5717160" y="32641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3"/>
            <p:cNvSpPr/>
            <p:nvPr/>
          </p:nvSpPr>
          <p:spPr>
            <a:xfrm>
              <a:off x="7851600" y="485496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o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4"/>
            <p:cNvSpPr/>
            <p:nvPr/>
          </p:nvSpPr>
          <p:spPr>
            <a:xfrm>
              <a:off x="2822040" y="56037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n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5"/>
            <p:cNvSpPr/>
            <p:nvPr/>
          </p:nvSpPr>
          <p:spPr>
            <a:xfrm>
              <a:off x="4726800" y="260892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u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6"/>
            <p:cNvSpPr/>
            <p:nvPr/>
          </p:nvSpPr>
          <p:spPr>
            <a:xfrm flipV="1">
              <a:off x="533520" y="2680920"/>
              <a:ext cx="533160" cy="13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7"/>
            <p:cNvSpPr/>
            <p:nvPr/>
          </p:nvSpPr>
          <p:spPr>
            <a:xfrm>
              <a:off x="533520" y="4084560"/>
              <a:ext cx="30456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533520" y="3148920"/>
              <a:ext cx="167616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9"/>
            <p:cNvSpPr/>
            <p:nvPr/>
          </p:nvSpPr>
          <p:spPr>
            <a:xfrm>
              <a:off x="1371600" y="2587680"/>
              <a:ext cx="8380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0"/>
            <p:cNvSpPr/>
            <p:nvPr/>
          </p:nvSpPr>
          <p:spPr>
            <a:xfrm flipV="1">
              <a:off x="914400" y="3242160"/>
              <a:ext cx="1295280" cy="19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1"/>
            <p:cNvSpPr/>
            <p:nvPr/>
          </p:nvSpPr>
          <p:spPr>
            <a:xfrm flipH="1">
              <a:off x="914040" y="2680920"/>
              <a:ext cx="228600" cy="24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2"/>
            <p:cNvSpPr/>
            <p:nvPr/>
          </p:nvSpPr>
          <p:spPr>
            <a:xfrm>
              <a:off x="2286000" y="1932480"/>
              <a:ext cx="7632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3"/>
            <p:cNvSpPr/>
            <p:nvPr/>
          </p:nvSpPr>
          <p:spPr>
            <a:xfrm flipV="1">
              <a:off x="1371600" y="1838520"/>
              <a:ext cx="7621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4"/>
            <p:cNvSpPr/>
            <p:nvPr/>
          </p:nvSpPr>
          <p:spPr>
            <a:xfrm>
              <a:off x="2438280" y="3242520"/>
              <a:ext cx="1526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5"/>
            <p:cNvSpPr/>
            <p:nvPr/>
          </p:nvSpPr>
          <p:spPr>
            <a:xfrm flipV="1">
              <a:off x="1371600" y="2119320"/>
              <a:ext cx="25146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6"/>
            <p:cNvSpPr/>
            <p:nvPr/>
          </p:nvSpPr>
          <p:spPr>
            <a:xfrm flipH="1">
              <a:off x="3733920" y="2213280"/>
              <a:ext cx="304560" cy="93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7"/>
            <p:cNvSpPr/>
            <p:nvPr/>
          </p:nvSpPr>
          <p:spPr>
            <a:xfrm flipV="1">
              <a:off x="2819520" y="3335760"/>
              <a:ext cx="838080" cy="93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8"/>
            <p:cNvSpPr/>
            <p:nvPr/>
          </p:nvSpPr>
          <p:spPr>
            <a:xfrm flipV="1">
              <a:off x="3809880" y="2868120"/>
              <a:ext cx="99072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9"/>
            <p:cNvSpPr/>
            <p:nvPr/>
          </p:nvSpPr>
          <p:spPr>
            <a:xfrm>
              <a:off x="4114800" y="2213280"/>
              <a:ext cx="68580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0"/>
            <p:cNvSpPr/>
            <p:nvPr/>
          </p:nvSpPr>
          <p:spPr>
            <a:xfrm>
              <a:off x="4952880" y="2961720"/>
              <a:ext cx="7632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1"/>
            <p:cNvSpPr/>
            <p:nvPr/>
          </p:nvSpPr>
          <p:spPr>
            <a:xfrm>
              <a:off x="4038480" y="2213280"/>
              <a:ext cx="990720" cy="15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2"/>
            <p:cNvSpPr/>
            <p:nvPr/>
          </p:nvSpPr>
          <p:spPr>
            <a:xfrm flipV="1">
              <a:off x="4343400" y="3990960"/>
              <a:ext cx="609480" cy="19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3"/>
            <p:cNvSpPr/>
            <p:nvPr/>
          </p:nvSpPr>
          <p:spPr>
            <a:xfrm>
              <a:off x="3809880" y="3336120"/>
              <a:ext cx="533520" cy="262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4"/>
            <p:cNvSpPr/>
            <p:nvPr/>
          </p:nvSpPr>
          <p:spPr>
            <a:xfrm>
              <a:off x="4038480" y="2306880"/>
              <a:ext cx="30492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5"/>
            <p:cNvSpPr/>
            <p:nvPr/>
          </p:nvSpPr>
          <p:spPr>
            <a:xfrm flipV="1">
              <a:off x="4343400" y="2961360"/>
              <a:ext cx="457200" cy="29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6"/>
            <p:cNvSpPr/>
            <p:nvPr/>
          </p:nvSpPr>
          <p:spPr>
            <a:xfrm>
              <a:off x="2514600" y="3242520"/>
              <a:ext cx="1828800" cy="27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7"/>
            <p:cNvSpPr/>
            <p:nvPr/>
          </p:nvSpPr>
          <p:spPr>
            <a:xfrm flipH="1">
              <a:off x="1904760" y="4459320"/>
              <a:ext cx="60948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8"/>
            <p:cNvSpPr/>
            <p:nvPr/>
          </p:nvSpPr>
          <p:spPr>
            <a:xfrm>
              <a:off x="2666880" y="4459320"/>
              <a:ext cx="457200" cy="13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9"/>
            <p:cNvSpPr/>
            <p:nvPr/>
          </p:nvSpPr>
          <p:spPr>
            <a:xfrm flipH="1">
              <a:off x="1905120" y="3336120"/>
              <a:ext cx="380880" cy="22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0"/>
            <p:cNvSpPr/>
            <p:nvPr/>
          </p:nvSpPr>
          <p:spPr>
            <a:xfrm flipV="1">
              <a:off x="3124080" y="3335760"/>
              <a:ext cx="533520" cy="23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1"/>
            <p:cNvSpPr/>
            <p:nvPr/>
          </p:nvSpPr>
          <p:spPr>
            <a:xfrm flipV="1">
              <a:off x="990720" y="2213280"/>
              <a:ext cx="2971800" cy="29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2"/>
            <p:cNvSpPr/>
            <p:nvPr/>
          </p:nvSpPr>
          <p:spPr>
            <a:xfrm flipV="1">
              <a:off x="4952880" y="2212920"/>
              <a:ext cx="83844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3"/>
            <p:cNvSpPr/>
            <p:nvPr/>
          </p:nvSpPr>
          <p:spPr>
            <a:xfrm flipH="1">
              <a:off x="5181480" y="2306880"/>
              <a:ext cx="60984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54"/>
            <p:cNvSpPr/>
            <p:nvPr/>
          </p:nvSpPr>
          <p:spPr>
            <a:xfrm flipV="1">
              <a:off x="6248520" y="2025720"/>
              <a:ext cx="106668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55"/>
            <p:cNvSpPr/>
            <p:nvPr/>
          </p:nvSpPr>
          <p:spPr>
            <a:xfrm>
              <a:off x="6324480" y="2213280"/>
              <a:ext cx="1600200" cy="28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56"/>
            <p:cNvSpPr/>
            <p:nvPr/>
          </p:nvSpPr>
          <p:spPr>
            <a:xfrm flipH="1">
              <a:off x="6553080" y="2119320"/>
              <a:ext cx="914400" cy="23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57"/>
            <p:cNvSpPr/>
            <p:nvPr/>
          </p:nvSpPr>
          <p:spPr>
            <a:xfrm flipH="1">
              <a:off x="5181120" y="2306880"/>
              <a:ext cx="762120" cy="29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58"/>
            <p:cNvSpPr/>
            <p:nvPr/>
          </p:nvSpPr>
          <p:spPr>
            <a:xfrm flipV="1">
              <a:off x="5334120" y="5114160"/>
              <a:ext cx="259056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9"/>
            <p:cNvSpPr/>
            <p:nvPr/>
          </p:nvSpPr>
          <p:spPr>
            <a:xfrm>
              <a:off x="7467480" y="2119320"/>
              <a:ext cx="457200" cy="29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60"/>
            <p:cNvSpPr/>
            <p:nvPr/>
          </p:nvSpPr>
          <p:spPr>
            <a:xfrm flipV="1">
              <a:off x="5257800" y="4645800"/>
              <a:ext cx="10666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61"/>
            <p:cNvSpPr/>
            <p:nvPr/>
          </p:nvSpPr>
          <p:spPr>
            <a:xfrm flipV="1">
              <a:off x="5181480" y="2119320"/>
              <a:ext cx="2210040" cy="30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2"/>
            <p:cNvSpPr/>
            <p:nvPr/>
          </p:nvSpPr>
          <p:spPr>
            <a:xfrm>
              <a:off x="6858000" y="4646160"/>
              <a:ext cx="106668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3"/>
            <p:cNvSpPr/>
            <p:nvPr/>
          </p:nvSpPr>
          <p:spPr>
            <a:xfrm>
              <a:off x="6172200" y="2306880"/>
              <a:ext cx="304920" cy="21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4"/>
            <p:cNvSpPr/>
            <p:nvPr/>
          </p:nvSpPr>
          <p:spPr>
            <a:xfrm flipV="1">
              <a:off x="5943600" y="2306520"/>
              <a:ext cx="76320" cy="10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5"/>
            <p:cNvSpPr/>
            <p:nvPr/>
          </p:nvSpPr>
          <p:spPr>
            <a:xfrm flipV="1">
              <a:off x="5181480" y="3522960"/>
              <a:ext cx="60984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6"/>
            <p:cNvSpPr/>
            <p:nvPr/>
          </p:nvSpPr>
          <p:spPr>
            <a:xfrm flipV="1">
              <a:off x="4343400" y="5394960"/>
              <a:ext cx="6094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7"/>
            <p:cNvSpPr/>
            <p:nvPr/>
          </p:nvSpPr>
          <p:spPr>
            <a:xfrm>
              <a:off x="1066680" y="5395320"/>
              <a:ext cx="68580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8"/>
            <p:cNvSpPr/>
            <p:nvPr/>
          </p:nvSpPr>
          <p:spPr>
            <a:xfrm>
              <a:off x="4343400" y="5956560"/>
              <a:ext cx="228600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9"/>
            <p:cNvSpPr/>
            <p:nvPr/>
          </p:nvSpPr>
          <p:spPr>
            <a:xfrm flipH="1">
              <a:off x="6781320" y="2119320"/>
              <a:ext cx="68580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0"/>
            <p:cNvSpPr/>
            <p:nvPr/>
          </p:nvSpPr>
          <p:spPr>
            <a:xfrm flipH="1" flipV="1">
              <a:off x="7543440" y="2119320"/>
              <a:ext cx="609480" cy="74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71"/>
            <p:cNvSpPr/>
            <p:nvPr/>
          </p:nvSpPr>
          <p:spPr>
            <a:xfrm>
              <a:off x="5181480" y="28684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72"/>
            <p:cNvSpPr/>
            <p:nvPr/>
          </p:nvSpPr>
          <p:spPr>
            <a:xfrm flipH="1">
              <a:off x="8001000" y="3897720"/>
              <a:ext cx="38088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73"/>
            <p:cNvSpPr/>
            <p:nvPr/>
          </p:nvSpPr>
          <p:spPr>
            <a:xfrm flipV="1">
              <a:off x="6781680" y="3055320"/>
              <a:ext cx="1295640" cy="28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74"/>
            <p:cNvSpPr/>
            <p:nvPr/>
          </p:nvSpPr>
          <p:spPr>
            <a:xfrm>
              <a:off x="2666880" y="4459320"/>
              <a:ext cx="1676520" cy="149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5"/>
            <p:cNvSpPr/>
            <p:nvPr/>
          </p:nvSpPr>
          <p:spPr>
            <a:xfrm flipV="1">
              <a:off x="3124080" y="2961720"/>
              <a:ext cx="4876920" cy="28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76"/>
            <p:cNvSpPr/>
            <p:nvPr/>
          </p:nvSpPr>
          <p:spPr>
            <a:xfrm>
              <a:off x="2590920" y="3149280"/>
              <a:ext cx="4190760" cy="27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CB48-616F-4EB5-8D18-5E3441EC9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hat’s the largest clique?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036880" y="1523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129040" y="2887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806280" y="18572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4873320" y="36352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2357640" y="41036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787360" y="1951200"/>
            <a:ext cx="750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7921080" y="2700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3501360" y="297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4796640" y="5038560"/>
            <a:ext cx="788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6168600" y="4290840"/>
            <a:ext cx="1029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71640" y="3822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834840" y="23256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1672560" y="5413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3958920" y="58816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8"/>
          <p:cNvSpPr/>
          <p:nvPr/>
        </p:nvSpPr>
        <p:spPr>
          <a:xfrm>
            <a:off x="7234920" y="1763640"/>
            <a:ext cx="966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s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7998120" y="35416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6549480" y="5788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1"/>
          <p:cNvSpPr/>
          <p:nvPr/>
        </p:nvSpPr>
        <p:spPr>
          <a:xfrm>
            <a:off x="681480" y="50385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5710680" y="3260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7845120" y="4853160"/>
            <a:ext cx="108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2815560" y="5600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4720680" y="26067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6"/>
          <p:cNvSpPr/>
          <p:nvPr/>
        </p:nvSpPr>
        <p:spPr>
          <a:xfrm flipV="1">
            <a:off x="527040" y="2678040"/>
            <a:ext cx="533520" cy="13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7"/>
          <p:cNvSpPr/>
          <p:nvPr/>
        </p:nvSpPr>
        <p:spPr>
          <a:xfrm>
            <a:off x="527040" y="4081320"/>
            <a:ext cx="30492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8"/>
          <p:cNvSpPr/>
          <p:nvPr/>
        </p:nvSpPr>
        <p:spPr>
          <a:xfrm flipV="1">
            <a:off x="527040" y="3146040"/>
            <a:ext cx="167652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9"/>
          <p:cNvSpPr/>
          <p:nvPr/>
        </p:nvSpPr>
        <p:spPr>
          <a:xfrm>
            <a:off x="1365120" y="2584440"/>
            <a:ext cx="8384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0"/>
          <p:cNvSpPr/>
          <p:nvPr/>
        </p:nvSpPr>
        <p:spPr>
          <a:xfrm flipV="1">
            <a:off x="907920" y="3239640"/>
            <a:ext cx="1295640" cy="19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1"/>
          <p:cNvSpPr/>
          <p:nvPr/>
        </p:nvSpPr>
        <p:spPr>
          <a:xfrm flipH="1">
            <a:off x="907560" y="2678040"/>
            <a:ext cx="228600" cy="24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2"/>
          <p:cNvSpPr/>
          <p:nvPr/>
        </p:nvSpPr>
        <p:spPr>
          <a:xfrm>
            <a:off x="2279520" y="1928880"/>
            <a:ext cx="7632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1365120" y="1836360"/>
            <a:ext cx="7621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4"/>
          <p:cNvSpPr/>
          <p:nvPr/>
        </p:nvSpPr>
        <p:spPr>
          <a:xfrm>
            <a:off x="2432160" y="3240000"/>
            <a:ext cx="15228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5"/>
          <p:cNvSpPr/>
          <p:nvPr/>
        </p:nvSpPr>
        <p:spPr>
          <a:xfrm flipV="1">
            <a:off x="1365120" y="2115720"/>
            <a:ext cx="251460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6"/>
          <p:cNvSpPr/>
          <p:nvPr/>
        </p:nvSpPr>
        <p:spPr>
          <a:xfrm flipH="1">
            <a:off x="3727080" y="2209680"/>
            <a:ext cx="3049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7"/>
          <p:cNvSpPr/>
          <p:nvPr/>
        </p:nvSpPr>
        <p:spPr>
          <a:xfrm flipV="1">
            <a:off x="2813040" y="3333600"/>
            <a:ext cx="83808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8"/>
          <p:cNvSpPr/>
          <p:nvPr/>
        </p:nvSpPr>
        <p:spPr>
          <a:xfrm flipV="1">
            <a:off x="3803760" y="2865600"/>
            <a:ext cx="99036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9"/>
          <p:cNvSpPr/>
          <p:nvPr/>
        </p:nvSpPr>
        <p:spPr>
          <a:xfrm>
            <a:off x="4108320" y="2209680"/>
            <a:ext cx="685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0"/>
          <p:cNvSpPr/>
          <p:nvPr/>
        </p:nvSpPr>
        <p:spPr>
          <a:xfrm>
            <a:off x="4946760" y="2959200"/>
            <a:ext cx="75960" cy="84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1"/>
          <p:cNvSpPr/>
          <p:nvPr/>
        </p:nvSpPr>
        <p:spPr>
          <a:xfrm>
            <a:off x="4032360" y="2209680"/>
            <a:ext cx="990360" cy="15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2"/>
          <p:cNvSpPr/>
          <p:nvPr/>
        </p:nvSpPr>
        <p:spPr>
          <a:xfrm flipV="1">
            <a:off x="4336920" y="3987720"/>
            <a:ext cx="609840" cy="19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3"/>
          <p:cNvSpPr/>
          <p:nvPr/>
        </p:nvSpPr>
        <p:spPr>
          <a:xfrm>
            <a:off x="3803760" y="3333600"/>
            <a:ext cx="533160" cy="262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4032360" y="2303640"/>
            <a:ext cx="304560" cy="365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336920" y="2958840"/>
            <a:ext cx="457200" cy="29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6"/>
          <p:cNvSpPr/>
          <p:nvPr/>
        </p:nvSpPr>
        <p:spPr>
          <a:xfrm>
            <a:off x="2508120" y="3240000"/>
            <a:ext cx="182880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7"/>
          <p:cNvSpPr/>
          <p:nvPr/>
        </p:nvSpPr>
        <p:spPr>
          <a:xfrm flipH="1">
            <a:off x="1898280" y="4456080"/>
            <a:ext cx="60948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8"/>
          <p:cNvSpPr/>
          <p:nvPr/>
        </p:nvSpPr>
        <p:spPr>
          <a:xfrm>
            <a:off x="2660760" y="4456080"/>
            <a:ext cx="457200" cy="13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9"/>
          <p:cNvSpPr/>
          <p:nvPr/>
        </p:nvSpPr>
        <p:spPr>
          <a:xfrm flipH="1">
            <a:off x="1898640" y="3333600"/>
            <a:ext cx="380880" cy="22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0"/>
          <p:cNvSpPr/>
          <p:nvPr/>
        </p:nvSpPr>
        <p:spPr>
          <a:xfrm flipV="1">
            <a:off x="3117960" y="3333600"/>
            <a:ext cx="53316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1"/>
          <p:cNvSpPr/>
          <p:nvPr/>
        </p:nvSpPr>
        <p:spPr>
          <a:xfrm flipV="1">
            <a:off x="984240" y="2209320"/>
            <a:ext cx="2971800" cy="29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2"/>
          <p:cNvSpPr/>
          <p:nvPr/>
        </p:nvSpPr>
        <p:spPr>
          <a:xfrm flipV="1">
            <a:off x="4946760" y="2209320"/>
            <a:ext cx="83808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3"/>
          <p:cNvSpPr/>
          <p:nvPr/>
        </p:nvSpPr>
        <p:spPr>
          <a:xfrm flipH="1">
            <a:off x="5175000" y="2303640"/>
            <a:ext cx="609480" cy="14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4"/>
          <p:cNvSpPr/>
          <p:nvPr/>
        </p:nvSpPr>
        <p:spPr>
          <a:xfrm flipV="1">
            <a:off x="6242040" y="2022480"/>
            <a:ext cx="1066680" cy="93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5"/>
          <p:cNvSpPr/>
          <p:nvPr/>
        </p:nvSpPr>
        <p:spPr>
          <a:xfrm>
            <a:off x="6318360" y="2209680"/>
            <a:ext cx="1600200" cy="280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6"/>
          <p:cNvSpPr/>
          <p:nvPr/>
        </p:nvSpPr>
        <p:spPr>
          <a:xfrm flipH="1">
            <a:off x="6546960" y="2116080"/>
            <a:ext cx="914400" cy="2340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7"/>
          <p:cNvSpPr/>
          <p:nvPr/>
        </p:nvSpPr>
        <p:spPr>
          <a:xfrm flipH="1">
            <a:off x="5175360" y="2303640"/>
            <a:ext cx="761760" cy="2901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8"/>
          <p:cNvSpPr/>
          <p:nvPr/>
        </p:nvSpPr>
        <p:spPr>
          <a:xfrm flipV="1">
            <a:off x="5327640" y="5111280"/>
            <a:ext cx="2590920" cy="1875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7461360" y="2116080"/>
            <a:ext cx="457200" cy="29019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0"/>
          <p:cNvSpPr/>
          <p:nvPr/>
        </p:nvSpPr>
        <p:spPr>
          <a:xfrm flipV="1">
            <a:off x="5251320" y="4642920"/>
            <a:ext cx="1067040" cy="5619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1"/>
          <p:cNvSpPr/>
          <p:nvPr/>
        </p:nvSpPr>
        <p:spPr>
          <a:xfrm flipV="1">
            <a:off x="5175360" y="2115720"/>
            <a:ext cx="2209680" cy="3089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2"/>
          <p:cNvSpPr/>
          <p:nvPr/>
        </p:nvSpPr>
        <p:spPr>
          <a:xfrm>
            <a:off x="6851520" y="4643280"/>
            <a:ext cx="1067040" cy="3747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63"/>
          <p:cNvSpPr/>
          <p:nvPr/>
        </p:nvSpPr>
        <p:spPr>
          <a:xfrm>
            <a:off x="6165720" y="2303640"/>
            <a:ext cx="304920" cy="2152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4"/>
          <p:cNvSpPr/>
          <p:nvPr/>
        </p:nvSpPr>
        <p:spPr>
          <a:xfrm flipV="1">
            <a:off x="5937120" y="2303280"/>
            <a:ext cx="76320" cy="10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5"/>
          <p:cNvSpPr/>
          <p:nvPr/>
        </p:nvSpPr>
        <p:spPr>
          <a:xfrm flipV="1">
            <a:off x="5175360" y="3521160"/>
            <a:ext cx="60948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66"/>
          <p:cNvSpPr/>
          <p:nvPr/>
        </p:nvSpPr>
        <p:spPr>
          <a:xfrm flipV="1">
            <a:off x="4336920" y="5392440"/>
            <a:ext cx="6098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67"/>
          <p:cNvSpPr/>
          <p:nvPr/>
        </p:nvSpPr>
        <p:spPr>
          <a:xfrm>
            <a:off x="1060560" y="5392800"/>
            <a:ext cx="68580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8"/>
          <p:cNvSpPr/>
          <p:nvPr/>
        </p:nvSpPr>
        <p:spPr>
          <a:xfrm>
            <a:off x="4336920" y="5954760"/>
            <a:ext cx="228600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69"/>
          <p:cNvSpPr/>
          <p:nvPr/>
        </p:nvSpPr>
        <p:spPr>
          <a:xfrm flipH="1">
            <a:off x="6775200" y="2116080"/>
            <a:ext cx="68580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0"/>
          <p:cNvSpPr/>
          <p:nvPr/>
        </p:nvSpPr>
        <p:spPr>
          <a:xfrm flipH="1" flipV="1">
            <a:off x="7537320" y="2116080"/>
            <a:ext cx="60984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1"/>
          <p:cNvSpPr/>
          <p:nvPr/>
        </p:nvSpPr>
        <p:spPr>
          <a:xfrm>
            <a:off x="5175360" y="28656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2"/>
          <p:cNvSpPr/>
          <p:nvPr/>
        </p:nvSpPr>
        <p:spPr>
          <a:xfrm flipH="1">
            <a:off x="7994160" y="3895560"/>
            <a:ext cx="381240" cy="11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73"/>
          <p:cNvSpPr/>
          <p:nvPr/>
        </p:nvSpPr>
        <p:spPr>
          <a:xfrm flipV="1">
            <a:off x="6775560" y="3052440"/>
            <a:ext cx="1295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4"/>
          <p:cNvSpPr/>
          <p:nvPr/>
        </p:nvSpPr>
        <p:spPr>
          <a:xfrm>
            <a:off x="2660760" y="4456080"/>
            <a:ext cx="167616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75"/>
          <p:cNvSpPr/>
          <p:nvPr/>
        </p:nvSpPr>
        <p:spPr>
          <a:xfrm flipV="1">
            <a:off x="3117960" y="2958840"/>
            <a:ext cx="487656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6"/>
          <p:cNvSpPr/>
          <p:nvPr/>
        </p:nvSpPr>
        <p:spPr>
          <a:xfrm>
            <a:off x="2584440" y="3146400"/>
            <a:ext cx="41911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0D72-82B1-4107-BC48-F6D9F3880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at home in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i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You wan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your library books to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up dinner a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estsid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some copying done a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illage Co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, you want to return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4648320" y="2133720"/>
          <a:ext cx="4038480" cy="30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03848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8AEE-29FD-4FA8-9006-13EC53809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verag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ocial network, we can defin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er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group of people whose collective set of friends includes everyone in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llenge is to find the minimum cover (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are tw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coverage s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Peanuts graph. Can you come up with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maller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433880" y="36068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Char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12360" y="47386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525680" y="550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Lu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439000" y="42814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Sno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2973960" y="5195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2363760" y="6033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"/>
          <p:cNvSpPr/>
          <p:nvPr/>
        </p:nvSpPr>
        <p:spPr>
          <a:xfrm flipV="1">
            <a:off x="914400" y="387504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2"/>
          <p:cNvSpPr/>
          <p:nvPr/>
        </p:nvSpPr>
        <p:spPr>
          <a:xfrm>
            <a:off x="1676520" y="387504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>
            <a:off x="1676520" y="387504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>
            <a:off x="2743200" y="45608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5"/>
          <p:cNvSpPr/>
          <p:nvPr/>
        </p:nvSpPr>
        <p:spPr>
          <a:xfrm flipV="1">
            <a:off x="1676520" y="4560480"/>
            <a:ext cx="9903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2666880" y="4560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7"/>
          <p:cNvSpPr/>
          <p:nvPr/>
        </p:nvSpPr>
        <p:spPr>
          <a:xfrm>
            <a:off x="1905120" y="5856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3"/>
          <p:cNvSpPr/>
          <p:nvPr/>
        </p:nvSpPr>
        <p:spPr>
          <a:xfrm>
            <a:off x="5819760" y="36068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4"/>
          <p:cNvSpPr/>
          <p:nvPr/>
        </p:nvSpPr>
        <p:spPr>
          <a:xfrm>
            <a:off x="4995000" y="4738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5"/>
          <p:cNvSpPr/>
          <p:nvPr/>
        </p:nvSpPr>
        <p:spPr>
          <a:xfrm>
            <a:off x="5910120" y="550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Lu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6825600" y="42814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7"/>
          <p:cNvSpPr/>
          <p:nvPr/>
        </p:nvSpPr>
        <p:spPr>
          <a:xfrm>
            <a:off x="7357680" y="51958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Wood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8"/>
          <p:cNvSpPr/>
          <p:nvPr/>
        </p:nvSpPr>
        <p:spPr>
          <a:xfrm>
            <a:off x="6748200" y="6033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9"/>
          <p:cNvSpPr/>
          <p:nvPr/>
        </p:nvSpPr>
        <p:spPr>
          <a:xfrm flipV="1">
            <a:off x="5299200" y="387504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0"/>
          <p:cNvSpPr/>
          <p:nvPr/>
        </p:nvSpPr>
        <p:spPr>
          <a:xfrm>
            <a:off x="6060960" y="387504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1"/>
          <p:cNvSpPr/>
          <p:nvPr/>
        </p:nvSpPr>
        <p:spPr>
          <a:xfrm>
            <a:off x="6060960" y="387504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2"/>
          <p:cNvSpPr/>
          <p:nvPr/>
        </p:nvSpPr>
        <p:spPr>
          <a:xfrm>
            <a:off x="7128000" y="45608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3"/>
          <p:cNvSpPr/>
          <p:nvPr/>
        </p:nvSpPr>
        <p:spPr>
          <a:xfrm flipV="1">
            <a:off x="6060960" y="4560480"/>
            <a:ext cx="9907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4"/>
          <p:cNvSpPr/>
          <p:nvPr/>
        </p:nvSpPr>
        <p:spPr>
          <a:xfrm>
            <a:off x="7051680" y="4560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5"/>
          <p:cNvSpPr/>
          <p:nvPr/>
        </p:nvSpPr>
        <p:spPr>
          <a:xfrm>
            <a:off x="6289560" y="58561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7" descr="snoopyandwood"/>
          <p:cNvPicPr/>
          <p:nvPr/>
        </p:nvPicPr>
        <p:blipFill>
          <a:blip r:embed="rId1"/>
          <a:stretch/>
        </p:blipFill>
        <p:spPr>
          <a:xfrm>
            <a:off x="7746840" y="0"/>
            <a:ext cx="1397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9095-034D-43AE-ACBD-EC667F98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verag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inimum coverage set in the Simpsons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it take to check whether a set of nodes is a coverage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n algorithm to find the minimum coverag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5337-5768-4D8C-B279-C07DB6D39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933480" cy="10573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669960" cy="12859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5257800" y="1371600"/>
            <a:ext cx="644400" cy="1033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4"/>
          <a:stretch/>
        </p:blipFill>
        <p:spPr>
          <a:xfrm>
            <a:off x="7620120" y="3048120"/>
            <a:ext cx="1028520" cy="952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iendships on a grap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1586880" y="1636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383760" y="3429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4573800" y="1905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6937200" y="30481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5870160" y="48769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4345920" y="57913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350748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069200" y="5943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"/>
          <p:cNvSpPr/>
          <p:nvPr/>
        </p:nvSpPr>
        <p:spPr>
          <a:xfrm flipH="1">
            <a:off x="1295280" y="19810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6"/>
          <p:cNvSpPr/>
          <p:nvPr/>
        </p:nvSpPr>
        <p:spPr>
          <a:xfrm>
            <a:off x="990720" y="3809880"/>
            <a:ext cx="6858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 flipV="1">
            <a:off x="2133720" y="60195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8"/>
          <p:cNvSpPr/>
          <p:nvPr/>
        </p:nvSpPr>
        <p:spPr>
          <a:xfrm>
            <a:off x="4038480" y="3962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1219320" y="3809880"/>
            <a:ext cx="3124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0"/>
          <p:cNvSpPr/>
          <p:nvPr/>
        </p:nvSpPr>
        <p:spPr>
          <a:xfrm>
            <a:off x="1371600" y="36576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1"/>
          <p:cNvSpPr/>
          <p:nvPr/>
        </p:nvSpPr>
        <p:spPr>
          <a:xfrm>
            <a:off x="2057400" y="198108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2"/>
          <p:cNvSpPr/>
          <p:nvPr/>
        </p:nvSpPr>
        <p:spPr>
          <a:xfrm>
            <a:off x="2438280" y="182880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 flipV="1">
            <a:off x="4191120" y="22096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5105520" y="22096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6400440" y="32767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6"/>
          <p:cNvSpPr/>
          <p:nvPr/>
        </p:nvSpPr>
        <p:spPr>
          <a:xfrm flipH="1">
            <a:off x="480024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7" descr=""/>
          <p:cNvPicPr/>
          <p:nvPr/>
        </p:nvPicPr>
        <p:blipFill>
          <a:blip r:embed="rId5"/>
          <a:stretch/>
        </p:blipFill>
        <p:spPr>
          <a:xfrm>
            <a:off x="6705720" y="4876920"/>
            <a:ext cx="745920" cy="8380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8" descr=""/>
          <p:cNvPicPr/>
          <p:nvPr/>
        </p:nvPicPr>
        <p:blipFill>
          <a:blip r:embed="rId6"/>
          <a:stretch/>
        </p:blipFill>
        <p:spPr>
          <a:xfrm>
            <a:off x="304920" y="5688000"/>
            <a:ext cx="838080" cy="828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9" descr=""/>
          <p:cNvPicPr/>
          <p:nvPr/>
        </p:nvPicPr>
        <p:blipFill>
          <a:blip r:embed="rId7"/>
          <a:stretch/>
        </p:blipFill>
        <p:spPr>
          <a:xfrm>
            <a:off x="3581280" y="2209680"/>
            <a:ext cx="60336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0" descr=""/>
          <p:cNvPicPr/>
          <p:nvPr/>
        </p:nvPicPr>
        <p:blipFill>
          <a:blip r:embed="rId8"/>
          <a:stretch/>
        </p:blipFill>
        <p:spPr>
          <a:xfrm>
            <a:off x="5029200" y="5653080"/>
            <a:ext cx="768240" cy="1204920"/>
          </a:xfrm>
          <a:prstGeom prst="rect">
            <a:avLst/>
          </a:prstGeom>
          <a:ln w="0">
            <a:noFill/>
          </a:ln>
        </p:spPr>
      </p:pic>
      <p:sp>
        <p:nvSpPr>
          <p:cNvPr id="469" name="Line 31"/>
          <p:cNvSpPr/>
          <p:nvPr/>
        </p:nvSpPr>
        <p:spPr>
          <a:xfrm flipH="1">
            <a:off x="4647960" y="2286000"/>
            <a:ext cx="228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56C9-DF9E-48B4-9616-B563065F3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plex problem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se three problem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ing sale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7140-2895-4163-BA8E-2BA4671C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Hard problem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etermining whether or not it is possible to solve these problems quickly is one of the principal unsolved problems in computer science toda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P ≠ P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person to solve it will get $1 million (and probably a Field medal or Nobel Prize to boo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aymath.org/millennium/P_vs_NP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efinitions: P and NP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y that a problem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f a solution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f a solution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if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olynomial time (P is a subset of N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 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: a problem that is in NP and is as hard as any problem in NP (i.e. if you know how to solve an NP complete problem, you c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P complete proble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 h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: a problem that is at least as hard as any problem in NP, but may not be in NP (i.e. may not be verifiable in polynomial tim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49BE-7593-474E-B346-6B7E2655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ng Distance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map, you want to calculate the distance between Wie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age Co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sid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ow long would this take you to calcu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f we have 6 errands instead of 3, how long does it t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029200" y="1600200"/>
          <a:ext cx="365760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600200"/>
                    <a:ext cx="36576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C15E-E19C-4B27-92BB-DA6B9311D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ng Distance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want to calculate the distances betwe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ch p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ry other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ow long does this take for 4 pla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ow long does it take for 8 pla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105"/>
          <p:cNvGraphicFramePr/>
          <p:nvPr/>
        </p:nvGraphicFramePr>
        <p:xfrm>
          <a:off x="4800600" y="1676520"/>
          <a:ext cx="4038480" cy="30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10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403848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A281-C8E5-494A-8222-2D77F561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2"/>
          <p:cNvSpPr/>
          <p:nvPr/>
        </p:nvSpPr>
        <p:spPr>
          <a:xfrm>
            <a:off x="152280" y="4114800"/>
            <a:ext cx="8610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1"/>
          <p:cNvSpPr/>
          <p:nvPr/>
        </p:nvSpPr>
        <p:spPr>
          <a:xfrm>
            <a:off x="152280" y="2819520"/>
            <a:ext cx="8610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ng Distance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1676520"/>
          <a:ext cx="8596440" cy="377496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1052640"/>
                <a:gridCol w="2529000"/>
                <a:gridCol w="1128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rrands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from one to each 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airwise Distances (=N*(N-1)/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llion (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41"/>
          <p:cNvSpPr/>
          <p:nvPr/>
        </p:nvSpPr>
        <p:spPr>
          <a:xfrm>
            <a:off x="533520" y="594360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computer can calculate the cos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ill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s per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a calculato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EC97-8D7E-41FC-BED8-DF6F210D2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ng Distance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280" y="1676520"/>
          <a:ext cx="8596440" cy="384804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1052640"/>
                <a:gridCol w="2529000"/>
                <a:gridCol w="11286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rrands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from one to each 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airwise Dista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=N*(N-1)/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est’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7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h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llion (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,99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45"/>
          <p:cNvSpPr/>
          <p:nvPr/>
        </p:nvSpPr>
        <p:spPr>
          <a:xfrm>
            <a:off x="533520" y="594360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computer can calculate the cos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ill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s per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a calculato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682F-5885-44EE-AFE7-94D287333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ow many different possible ways are there to run all your erra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4648320" y="1447920"/>
          <a:ext cx="4038480" cy="30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47920"/>
                    <a:ext cx="403848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3BF1-C977-4A8B-8A43-6622678EC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unning Errand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4724280" y="2057400"/>
          <a:ext cx="403884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04920" y="1595520"/>
          <a:ext cx="4086000" cy="3740040"/>
        </p:xfrm>
        <a:graphic>
          <a:graphicData uri="http://schemas.openxmlformats.org/drawingml/2006/table">
            <a:tbl>
              <a:tblPr/>
              <a:tblGrid>
                <a:gridCol w="914400"/>
                <a:gridCol w="657000"/>
                <a:gridCol w="609840"/>
                <a:gridCol w="838080"/>
                <a:gridCol w="106668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1"/>
          <p:cNvSpPr/>
          <p:nvPr/>
        </p:nvSpPr>
        <p:spPr>
          <a:xfrm>
            <a:off x="914400" y="5715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What’s the fastest way to run all your errands, starting at home, and ending up at ho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380880" y="12034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s between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21:50:14Z</dcterms:created>
  <dc:creator>kristen</dc:creator>
  <dc:description/>
  <dc:language>en-US</dc:language>
  <cp:lastModifiedBy>Moni</cp:lastModifiedBy>
  <dcterms:modified xsi:type="dcterms:W3CDTF">2010-04-06T23:46:15Z</dcterms:modified>
  <cp:revision>44</cp:revision>
  <dc:subject/>
  <dc:title>Really Hard Problems</dc:title>
</cp:coreProperties>
</file>