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4A6662-DD9A-4789-A6D2-9E6FB7F5D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7EE470-A2F8-459E-AEB3-352F80E05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6ECC13-2C00-49A8-83C5-3F69E81D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5B289E-0ED0-47C3-BF86-402F7BD77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B568CE-B3AF-4B45-AEE1-67344C313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FF0F3E-A38D-4E3A-BDE8-6D097A595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B77F6C-2F8A-4D9F-B2A7-4F2D0C42C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0B019C-043D-43E5-8E35-60BE9942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D79E03-E8E7-4690-B90B-C99564DF9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AEC093-67DA-4E30-BA09-A641C1B83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D35BA8-A75B-43A6-BFA5-A0D4DF347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F54033-A1FA-4C3E-AD05-596F9518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21C36A8-E161-443A-A30F-3C54B118E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E27B76-AC11-4FCE-B21B-3F7055D4D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9BADE4-743F-4BD0-B5B7-59EC20253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A05BE4-D93C-4329-9B8C-80AB097F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file:///C:/Documents%20and%20Settings/kristen/Desktop/cscu.jpg"/>
          <p:cNvPicPr/>
          <p:nvPr/>
        </p:nvPicPr>
        <p:blipFill>
          <a:blip r:embed="rId2"/>
          <a:stretch/>
        </p:blipFill>
        <p:spPr>
          <a:xfrm>
            <a:off x="304920" y="304920"/>
            <a:ext cx="952560" cy="771480"/>
          </a:xfrm>
          <a:prstGeom prst="rect">
            <a:avLst/>
          </a:prstGeom>
          <a:ln w="0">
            <a:noFill/>
          </a:ln>
        </p:spPr>
      </p:pic>
      <p:sp>
        <p:nvSpPr>
          <p:cNvPr id="3" name="Line 5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590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ESP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Social Networks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You can actually </a:t>
            </a:r>
            <a:r>
              <a:rPr b="0" i="1" lang="en-US" sz="3600" spc="-1" strike="noStrike">
                <a:solidFill>
                  <a:srgbClr val="cc0000"/>
                </a:solidFill>
                <a:latin typeface="Arial"/>
              </a:rPr>
              <a:t>lear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something from Faceboo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file:///C:/Documents%20and%20Settings/kristen/Desktop/cscu.jpg"/>
          <p:cNvPicPr/>
          <p:nvPr/>
        </p:nvPicPr>
        <p:blipFill>
          <a:blip r:embed="rId1"/>
          <a:stretch/>
        </p:blipFill>
        <p:spPr>
          <a:xfrm>
            <a:off x="4114800" y="1752480"/>
            <a:ext cx="9525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enter of a graph and most frie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enter of the 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erson with the most friend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raph in which the center of the graph does not have the most friends. Your graph should have fewer than 12 no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Viral marketing in a social net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you are planning a viral marketing campaign (in which information about a product, service, etc. travels by word of mouth from friend to fri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a limited budget to pay off certain “seeds” who will tell all their friends about your fabulous new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an pay only one seed, who should it be? Hint: there may be more than one right answ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Viral marketing in a social net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an example where the seed is not the center of th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 algorithm for finding a single s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you want two “seeds”? Who would you seed in the Simpsons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oculation in a social net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networks can also be used as a way of determining the spread of a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s can use these to determine who should be inoculated so that the disease doesn’t spread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deoff is to find the minimum number of people to inoculate in order to protect the maximum number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Bart is a zombie and we want to preven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mbie disease from spreading to anyone el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people do we need to inocul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simpsonGO_b"/>
          <p:cNvPicPr/>
          <p:nvPr/>
        </p:nvPicPr>
        <p:blipFill>
          <a:blip r:embed="rId1"/>
          <a:stretch/>
        </p:blipFill>
        <p:spPr>
          <a:xfrm>
            <a:off x="7010280" y="3124080"/>
            <a:ext cx="1444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oculation in a social net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arge and Homer are zombies and we can only inoculate two people, who should be inoculated so that the greatest number of people are save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key feature for selecting candidates for inoc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do your algorithms scale to large graphs? Many algorithms become much more complex once the graph starts to get big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ocial network on the next page, apply your algorithms and see how easy/hard it is to find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st path between Jasmine and Es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st path between Beth and 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the center of the 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pair of has the strongest friendshi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would make a good single seed for viral marke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iana and Jasmine are zombies, and you can inoculate 2 people, who would you inoculate? How many would you s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iana and Jasmine are zombies, and you can inoculate 3 people, who would you inoculate? How many would you s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76680" y="1600200"/>
            <a:ext cx="8750520" cy="4634280"/>
            <a:chOff x="76680" y="1600200"/>
            <a:chExt cx="8750520" cy="4634280"/>
          </a:xfrm>
        </p:grpSpPr>
        <p:sp>
          <p:nvSpPr>
            <p:cNvPr id="187" name="Text Box 4"/>
            <p:cNvSpPr/>
            <p:nvPr/>
          </p:nvSpPr>
          <p:spPr>
            <a:xfrm>
              <a:off x="2043000" y="16002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5"/>
            <p:cNvSpPr/>
            <p:nvPr/>
          </p:nvSpPr>
          <p:spPr>
            <a:xfrm>
              <a:off x="2134080" y="2962800"/>
              <a:ext cx="49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3810240" y="1933560"/>
              <a:ext cx="54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7"/>
            <p:cNvSpPr/>
            <p:nvPr/>
          </p:nvSpPr>
          <p:spPr>
            <a:xfrm>
              <a:off x="4876560" y="371160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2362680" y="417960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9"/>
            <p:cNvSpPr/>
            <p:nvPr/>
          </p:nvSpPr>
          <p:spPr>
            <a:xfrm>
              <a:off x="5791320" y="2027160"/>
              <a:ext cx="56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7925040" y="27756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isel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3506040" y="30564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rri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2"/>
            <p:cNvSpPr/>
            <p:nvPr/>
          </p:nvSpPr>
          <p:spPr>
            <a:xfrm>
              <a:off x="4800600" y="511560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ab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6172200" y="43664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sm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"/>
            <p:cNvSpPr/>
            <p:nvPr/>
          </p:nvSpPr>
          <p:spPr>
            <a:xfrm>
              <a:off x="76680" y="3898800"/>
              <a:ext cx="49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5"/>
            <p:cNvSpPr/>
            <p:nvPr/>
          </p:nvSpPr>
          <p:spPr>
            <a:xfrm>
              <a:off x="837360" y="240120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u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6"/>
            <p:cNvSpPr/>
            <p:nvPr/>
          </p:nvSpPr>
          <p:spPr>
            <a:xfrm>
              <a:off x="1677240" y="548964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7"/>
            <p:cNvSpPr/>
            <p:nvPr/>
          </p:nvSpPr>
          <p:spPr>
            <a:xfrm>
              <a:off x="3962520" y="5958000"/>
              <a:ext cx="60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ico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7238880" y="1839600"/>
              <a:ext cx="70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s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9"/>
            <p:cNvSpPr/>
            <p:nvPr/>
          </p:nvSpPr>
          <p:spPr>
            <a:xfrm>
              <a:off x="7998840" y="3618000"/>
              <a:ext cx="82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nelo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0"/>
            <p:cNvSpPr/>
            <p:nvPr/>
          </p:nvSpPr>
          <p:spPr>
            <a:xfrm>
              <a:off x="6554160" y="586404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t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1"/>
            <p:cNvSpPr/>
            <p:nvPr/>
          </p:nvSpPr>
          <p:spPr>
            <a:xfrm>
              <a:off x="685800" y="511560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5715720" y="333720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3"/>
            <p:cNvSpPr/>
            <p:nvPr/>
          </p:nvSpPr>
          <p:spPr>
            <a:xfrm>
              <a:off x="7848000" y="492804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2819880" y="56772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n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5"/>
            <p:cNvSpPr/>
            <p:nvPr/>
          </p:nvSpPr>
          <p:spPr>
            <a:xfrm>
              <a:off x="4723920" y="2682000"/>
              <a:ext cx="53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u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6"/>
            <p:cNvSpPr/>
            <p:nvPr/>
          </p:nvSpPr>
          <p:spPr>
            <a:xfrm flipV="1">
              <a:off x="533520" y="2682000"/>
              <a:ext cx="533160" cy="13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>
              <a:off x="533520" y="4085640"/>
              <a:ext cx="30456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8"/>
            <p:cNvSpPr/>
            <p:nvPr/>
          </p:nvSpPr>
          <p:spPr>
            <a:xfrm flipV="1">
              <a:off x="533520" y="3150000"/>
              <a:ext cx="167616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9"/>
            <p:cNvSpPr/>
            <p:nvPr/>
          </p:nvSpPr>
          <p:spPr>
            <a:xfrm>
              <a:off x="1371600" y="2588760"/>
              <a:ext cx="8380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0"/>
            <p:cNvSpPr/>
            <p:nvPr/>
          </p:nvSpPr>
          <p:spPr>
            <a:xfrm flipV="1">
              <a:off x="914400" y="3243240"/>
              <a:ext cx="1295280" cy="19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1"/>
            <p:cNvSpPr/>
            <p:nvPr/>
          </p:nvSpPr>
          <p:spPr>
            <a:xfrm flipH="1">
              <a:off x="914040" y="2682000"/>
              <a:ext cx="228600" cy="24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2286000" y="1933560"/>
              <a:ext cx="7632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3"/>
            <p:cNvSpPr/>
            <p:nvPr/>
          </p:nvSpPr>
          <p:spPr>
            <a:xfrm flipV="1">
              <a:off x="1371600" y="1839600"/>
              <a:ext cx="7621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4"/>
            <p:cNvSpPr/>
            <p:nvPr/>
          </p:nvSpPr>
          <p:spPr>
            <a:xfrm>
              <a:off x="2438280" y="3243600"/>
              <a:ext cx="15264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5"/>
            <p:cNvSpPr/>
            <p:nvPr/>
          </p:nvSpPr>
          <p:spPr>
            <a:xfrm flipV="1">
              <a:off x="1371600" y="2120400"/>
              <a:ext cx="25146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6"/>
            <p:cNvSpPr/>
            <p:nvPr/>
          </p:nvSpPr>
          <p:spPr>
            <a:xfrm flipH="1">
              <a:off x="3733920" y="2214000"/>
              <a:ext cx="304560" cy="93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7"/>
            <p:cNvSpPr/>
            <p:nvPr/>
          </p:nvSpPr>
          <p:spPr>
            <a:xfrm flipV="1">
              <a:off x="2819520" y="3337200"/>
              <a:ext cx="838080" cy="93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8"/>
            <p:cNvSpPr/>
            <p:nvPr/>
          </p:nvSpPr>
          <p:spPr>
            <a:xfrm flipV="1">
              <a:off x="3809880" y="2869200"/>
              <a:ext cx="99072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9"/>
            <p:cNvSpPr/>
            <p:nvPr/>
          </p:nvSpPr>
          <p:spPr>
            <a:xfrm>
              <a:off x="4114800" y="2214000"/>
              <a:ext cx="68580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0"/>
            <p:cNvSpPr/>
            <p:nvPr/>
          </p:nvSpPr>
          <p:spPr>
            <a:xfrm>
              <a:off x="4952880" y="2962800"/>
              <a:ext cx="7632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1"/>
            <p:cNvSpPr/>
            <p:nvPr/>
          </p:nvSpPr>
          <p:spPr>
            <a:xfrm>
              <a:off x="4038480" y="2214000"/>
              <a:ext cx="990720" cy="15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2"/>
            <p:cNvSpPr/>
            <p:nvPr/>
          </p:nvSpPr>
          <p:spPr>
            <a:xfrm flipV="1">
              <a:off x="4343400" y="3992040"/>
              <a:ext cx="609480" cy="19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43"/>
            <p:cNvSpPr/>
            <p:nvPr/>
          </p:nvSpPr>
          <p:spPr>
            <a:xfrm>
              <a:off x="3809880" y="3337200"/>
              <a:ext cx="533520" cy="262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4"/>
            <p:cNvSpPr/>
            <p:nvPr/>
          </p:nvSpPr>
          <p:spPr>
            <a:xfrm>
              <a:off x="4038480" y="2307960"/>
              <a:ext cx="30492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5"/>
            <p:cNvSpPr/>
            <p:nvPr/>
          </p:nvSpPr>
          <p:spPr>
            <a:xfrm flipV="1">
              <a:off x="4343400" y="2962440"/>
              <a:ext cx="457200" cy="29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6"/>
            <p:cNvSpPr/>
            <p:nvPr/>
          </p:nvSpPr>
          <p:spPr>
            <a:xfrm>
              <a:off x="2514600" y="3243600"/>
              <a:ext cx="1828800" cy="27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7"/>
            <p:cNvSpPr/>
            <p:nvPr/>
          </p:nvSpPr>
          <p:spPr>
            <a:xfrm flipH="1">
              <a:off x="1904760" y="4460400"/>
              <a:ext cx="60948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8"/>
            <p:cNvSpPr/>
            <p:nvPr/>
          </p:nvSpPr>
          <p:spPr>
            <a:xfrm>
              <a:off x="2666880" y="4460400"/>
              <a:ext cx="457200" cy="13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9"/>
            <p:cNvSpPr/>
            <p:nvPr/>
          </p:nvSpPr>
          <p:spPr>
            <a:xfrm flipH="1">
              <a:off x="1905120" y="3337200"/>
              <a:ext cx="380880" cy="22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0"/>
            <p:cNvSpPr/>
            <p:nvPr/>
          </p:nvSpPr>
          <p:spPr>
            <a:xfrm flipV="1">
              <a:off x="3124080" y="3336840"/>
              <a:ext cx="533520" cy="23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1"/>
            <p:cNvSpPr/>
            <p:nvPr/>
          </p:nvSpPr>
          <p:spPr>
            <a:xfrm flipV="1">
              <a:off x="990720" y="2214000"/>
              <a:ext cx="2971800" cy="29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2"/>
            <p:cNvSpPr/>
            <p:nvPr/>
          </p:nvSpPr>
          <p:spPr>
            <a:xfrm flipV="1">
              <a:off x="4952880" y="2213640"/>
              <a:ext cx="83844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3"/>
            <p:cNvSpPr/>
            <p:nvPr/>
          </p:nvSpPr>
          <p:spPr>
            <a:xfrm flipH="1">
              <a:off x="5181480" y="2307960"/>
              <a:ext cx="60984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4"/>
            <p:cNvSpPr/>
            <p:nvPr/>
          </p:nvSpPr>
          <p:spPr>
            <a:xfrm flipV="1">
              <a:off x="6248520" y="2026800"/>
              <a:ext cx="106668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5"/>
            <p:cNvSpPr/>
            <p:nvPr/>
          </p:nvSpPr>
          <p:spPr>
            <a:xfrm>
              <a:off x="6324480" y="2214000"/>
              <a:ext cx="1600200" cy="28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6"/>
            <p:cNvSpPr/>
            <p:nvPr/>
          </p:nvSpPr>
          <p:spPr>
            <a:xfrm flipH="1">
              <a:off x="6553080" y="2120400"/>
              <a:ext cx="914400" cy="23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57"/>
            <p:cNvSpPr/>
            <p:nvPr/>
          </p:nvSpPr>
          <p:spPr>
            <a:xfrm flipH="1">
              <a:off x="5181120" y="2307960"/>
              <a:ext cx="762120" cy="29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8"/>
            <p:cNvSpPr/>
            <p:nvPr/>
          </p:nvSpPr>
          <p:spPr>
            <a:xfrm flipV="1">
              <a:off x="5334120" y="5115240"/>
              <a:ext cx="259056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59"/>
            <p:cNvSpPr/>
            <p:nvPr/>
          </p:nvSpPr>
          <p:spPr>
            <a:xfrm>
              <a:off x="7467480" y="2120400"/>
              <a:ext cx="457200" cy="29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60"/>
            <p:cNvSpPr/>
            <p:nvPr/>
          </p:nvSpPr>
          <p:spPr>
            <a:xfrm flipV="1">
              <a:off x="5257800" y="4646880"/>
              <a:ext cx="10666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1"/>
            <p:cNvSpPr/>
            <p:nvPr/>
          </p:nvSpPr>
          <p:spPr>
            <a:xfrm flipV="1">
              <a:off x="5181480" y="2120400"/>
              <a:ext cx="2210040" cy="30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62"/>
            <p:cNvSpPr/>
            <p:nvPr/>
          </p:nvSpPr>
          <p:spPr>
            <a:xfrm>
              <a:off x="6858000" y="4647240"/>
              <a:ext cx="106668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3"/>
            <p:cNvSpPr/>
            <p:nvPr/>
          </p:nvSpPr>
          <p:spPr>
            <a:xfrm>
              <a:off x="6172200" y="2307960"/>
              <a:ext cx="304920" cy="21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64"/>
            <p:cNvSpPr/>
            <p:nvPr/>
          </p:nvSpPr>
          <p:spPr>
            <a:xfrm flipV="1">
              <a:off x="5943600" y="2307600"/>
              <a:ext cx="76320" cy="10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65"/>
            <p:cNvSpPr/>
            <p:nvPr/>
          </p:nvSpPr>
          <p:spPr>
            <a:xfrm flipV="1">
              <a:off x="5181480" y="3524040"/>
              <a:ext cx="60984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6"/>
            <p:cNvSpPr/>
            <p:nvPr/>
          </p:nvSpPr>
          <p:spPr>
            <a:xfrm flipV="1">
              <a:off x="4343400" y="5396040"/>
              <a:ext cx="60948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67"/>
            <p:cNvSpPr/>
            <p:nvPr/>
          </p:nvSpPr>
          <p:spPr>
            <a:xfrm>
              <a:off x="1066680" y="5396400"/>
              <a:ext cx="68580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68"/>
            <p:cNvSpPr/>
            <p:nvPr/>
          </p:nvSpPr>
          <p:spPr>
            <a:xfrm>
              <a:off x="4343400" y="5958000"/>
              <a:ext cx="228600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9"/>
            <p:cNvSpPr/>
            <p:nvPr/>
          </p:nvSpPr>
          <p:spPr>
            <a:xfrm flipH="1">
              <a:off x="6781320" y="2120400"/>
              <a:ext cx="685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0"/>
            <p:cNvSpPr/>
            <p:nvPr/>
          </p:nvSpPr>
          <p:spPr>
            <a:xfrm flipH="1" flipV="1">
              <a:off x="7543440" y="2120400"/>
              <a:ext cx="609480" cy="74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1"/>
            <p:cNvSpPr/>
            <p:nvPr/>
          </p:nvSpPr>
          <p:spPr>
            <a:xfrm>
              <a:off x="5181480" y="28695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2"/>
            <p:cNvSpPr/>
            <p:nvPr/>
          </p:nvSpPr>
          <p:spPr>
            <a:xfrm flipH="1">
              <a:off x="8001000" y="3898800"/>
              <a:ext cx="380880" cy="11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3"/>
            <p:cNvSpPr/>
            <p:nvPr/>
          </p:nvSpPr>
          <p:spPr>
            <a:xfrm flipV="1">
              <a:off x="6781680" y="3056040"/>
              <a:ext cx="1295640" cy="28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4"/>
            <p:cNvSpPr/>
            <p:nvPr/>
          </p:nvSpPr>
          <p:spPr>
            <a:xfrm>
              <a:off x="2666880" y="4460400"/>
              <a:ext cx="1676520" cy="149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75"/>
            <p:cNvSpPr/>
            <p:nvPr/>
          </p:nvSpPr>
          <p:spPr>
            <a:xfrm flipV="1">
              <a:off x="3124080" y="2962440"/>
              <a:ext cx="4876920" cy="28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76"/>
            <p:cNvSpPr/>
            <p:nvPr/>
          </p:nvSpPr>
          <p:spPr>
            <a:xfrm>
              <a:off x="2590920" y="3150360"/>
              <a:ext cx="4190760" cy="27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Applying Social Networ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you could get your hands on any information you wan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“big picture” save-the-world problems could you solve using network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2828880" cy="2365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C:\Documents and Settings\kristen.WIN-CS\Desktop\twitter-social-network-analysis.jpg"/>
          <p:cNvPicPr/>
          <p:nvPr/>
        </p:nvPicPr>
        <p:blipFill>
          <a:blip r:embed="rId2"/>
          <a:stretch/>
        </p:blipFill>
        <p:spPr>
          <a:xfrm>
            <a:off x="380880" y="3727440"/>
            <a:ext cx="31305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3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933480" cy="10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1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669960" cy="12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0" descr=""/>
          <p:cNvPicPr/>
          <p:nvPr/>
        </p:nvPicPr>
        <p:blipFill>
          <a:blip r:embed="rId3"/>
          <a:stretch/>
        </p:blipFill>
        <p:spPr>
          <a:xfrm>
            <a:off x="5257800" y="1371600"/>
            <a:ext cx="644400" cy="1033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"/>
          <p:cNvPicPr/>
          <p:nvPr/>
        </p:nvPicPr>
        <p:blipFill>
          <a:blip r:embed="rId4"/>
          <a:stretch/>
        </p:blipFill>
        <p:spPr>
          <a:xfrm>
            <a:off x="7620120" y="3048120"/>
            <a:ext cx="1028520" cy="95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iendships on a graph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86880" y="1636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83760" y="3429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73800" y="1905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937200" y="30481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870160" y="48769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345920" y="57913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507480" y="358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069200" y="5943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 flipH="1">
            <a:off x="1295280" y="19810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990720" y="3809880"/>
            <a:ext cx="6858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2133720" y="60195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4038480" y="3962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219320" y="3809880"/>
            <a:ext cx="3124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1371600" y="36576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2057400" y="198108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2438280" y="182880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 flipV="1">
            <a:off x="4191120" y="22096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5105520" y="22096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H="1">
            <a:off x="6400440" y="32767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 flipH="1">
            <a:off x="480024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4" descr=""/>
          <p:cNvPicPr/>
          <p:nvPr/>
        </p:nvPicPr>
        <p:blipFill>
          <a:blip r:embed="rId5"/>
          <a:stretch/>
        </p:blipFill>
        <p:spPr>
          <a:xfrm>
            <a:off x="6705720" y="4876920"/>
            <a:ext cx="74592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"/>
          <p:cNvPicPr/>
          <p:nvPr/>
        </p:nvPicPr>
        <p:blipFill>
          <a:blip r:embed="rId6"/>
          <a:stretch/>
        </p:blipFill>
        <p:spPr>
          <a:xfrm>
            <a:off x="304920" y="5688000"/>
            <a:ext cx="838080" cy="82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9" descr=""/>
          <p:cNvPicPr/>
          <p:nvPr/>
        </p:nvPicPr>
        <p:blipFill>
          <a:blip r:embed="rId7"/>
          <a:stretch/>
        </p:blipFill>
        <p:spPr>
          <a:xfrm>
            <a:off x="3581280" y="2209680"/>
            <a:ext cx="60336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2" descr=""/>
          <p:cNvPicPr/>
          <p:nvPr/>
        </p:nvPicPr>
        <p:blipFill>
          <a:blip r:embed="rId8"/>
          <a:stretch/>
        </p:blipFill>
        <p:spPr>
          <a:xfrm>
            <a:off x="5029200" y="5653080"/>
            <a:ext cx="768240" cy="1204920"/>
          </a:xfrm>
          <a:prstGeom prst="rect">
            <a:avLst/>
          </a:prstGeom>
          <a:ln w="0">
            <a:noFill/>
          </a:ln>
        </p:spPr>
      </p:pic>
      <p:sp>
        <p:nvSpPr>
          <p:cNvPr id="152" name="Line 34"/>
          <p:cNvSpPr/>
          <p:nvPr/>
        </p:nvSpPr>
        <p:spPr>
          <a:xfrm flipH="1">
            <a:off x="4647960" y="2286000"/>
            <a:ext cx="2286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umber of frie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graph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node is the number of edges attached to the n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raph represents the connections between friends, then the degree is the same as the number of frie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umber of friends for each per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4038480"/>
          <a:ext cx="7391160" cy="17719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520"/>
                <a:gridCol w="184788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trong friendship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friendship could be defined as the number of common friends that the two people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trength of each friendship in the 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nders and Li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gie and Ho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house and B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ll the people in the Simpsons graph, whose friendship is strong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 an algorithm for finding the strongest friend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iends of frie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’s “people you might know” feature is based on looking for friends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 algorithm that (based on friends of friends) could be used to determine the “people you might kno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erson in the graph, who would be recommend at the top of the “people you might know” l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5076720"/>
          <a:ext cx="8229600" cy="1478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Degrees of separa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ocial network, the “degrees of separation” is the smallest number of people “in between” two people who are not friends wit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degree of separation between each pair of n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e and Ral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gie and Milho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nders and B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Algorithms for shortest path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the degree of separation between two nodes can be referred to as the “shortest path dist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algorithm to find the shortest path from one node in a graph to all the other no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rite an algorithm that finds the shortest path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parts of your solution to the first question be reused for the seco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19320" y="20001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enter of a graph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node in the graph, calculate the sum of the shortest distances to all the other nodes in the grap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2286000"/>
          <a:ext cx="8229600" cy="1463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34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de with the smallest sum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raph. Which node is the center of the 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enter of the graph have the most friend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1:28:32Z</dcterms:created>
  <dc:creator>kristen</dc:creator>
  <dc:description/>
  <dc:language>en-US</dc:language>
  <cp:lastModifiedBy>kristen</cp:lastModifiedBy>
  <dcterms:modified xsi:type="dcterms:W3CDTF">2009-04-03T01:03:38Z</dcterms:modified>
  <cp:revision>86</cp:revision>
  <dc:subject/>
  <dc:title>Slide 1</dc:title>
</cp:coreProperties>
</file>