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5D6-C56B-4AA6-9B0A-0025259B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4FD-55E8-4CA0-BFF6-05CE064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DE6-2741-42EB-9DC9-A37EDF81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C9A-2848-4D37-A2C7-065C40C5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5DE-1728-4199-8932-5EC4DEDD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03C-2977-48E6-B53B-9DEC2AB5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209-C190-4501-AC22-DCBE467E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17D-97DD-4DD0-AD19-C9B67CBD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F1B-FA78-4B5B-A50D-6B6101A9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161-E522-49A5-A252-99BBEBEC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747-28E1-4EE9-AED2-25F2A20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B02-9941-4D3D-B4D9-9C21C72F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75CB-90F1-4F6E-8F0D-554B93EC1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7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7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72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 and Resc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s are often used in SAR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saster, terrorism (9/11),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cases, rescuers may have a map of the area, but be unable to enter due to hazardous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s, the area may be unknown ahead of time, and the robot or rescuers have to map the area as the robot m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68580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evis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gene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algorithm (applicable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rooms) in the cases when Roomba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enti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oom (like, “from abov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see what’s immediately ar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ow apply your algorithms to the following rooms, and analyze how well the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ow could you revise those algorithms to work better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gene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c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00240" y="19080"/>
            <a:ext cx="67435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4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741240"/>
            <a:ext cx="883908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7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s there an optimal algorithm that will work best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ro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4fn.org/algorithms/maxflow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 packets of data across a communications network so that the largest number of messages per minute as possible got across the net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/congestion control – maximize cars per hours through tunnel/highway/bri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ing water through pipes (this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rating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set the taps so the maximum amount of water flows from the inlet (pink spot) to the outlet (the yellow spo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s against each pipe show the amount of water currently flowing down it and the maximum it takes. So, for example, 2/6 means that pipe takes 6 litres a second but at the moment only 2 litres per second are going through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flow down a pipe by clicking on the centre of the PLUS to increase it and the MINUS to decrease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leave a junction for long with more water flowing in to it than is flowing out. The pressure will build up and you could then end up needing a bucket, mop and well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23888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78168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378000"/>
            <a:ext cx="7010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6294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623880"/>
            <a:ext cx="8001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385920"/>
            <a:ext cx="741996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433440"/>
            <a:ext cx="79246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320" y="68580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lgorithms can you define when you ca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entire ma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see what’s immediately around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6160" y="95400"/>
            <a:ext cx="75916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m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maze, you only look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h from a starting point to an end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problem of traversing from a starting poi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ther reachabl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traver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nd doing so in as short a distance 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741240"/>
            <a:ext cx="883908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m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mba vacuum cleaner faces a similar challenge: traverse the entir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 are designing an algorithm to help Roomba traverse the room in as short a distance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it can “see” the entire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6:42:47Z</dcterms:created>
  <dc:creator>Chris Murphy</dc:creator>
  <dc:description/>
  <dc:language>en-US</dc:language>
  <cp:lastModifiedBy>kristen</cp:lastModifiedBy>
  <dcterms:modified xsi:type="dcterms:W3CDTF">2008-11-10T15:13:45Z</dcterms:modified>
  <cp:revision>31</cp:revision>
  <dc:subject/>
  <dc:title>Slide 1</dc:title>
</cp:coreProperties>
</file>