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F25DC4-3280-401C-949B-EF738E37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9BCCB0-77A6-43EC-AC0A-3CC43E9C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5A7A83-D4FB-42BF-872B-6A7CBE82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5DCCAC-EB9D-4076-979C-9A2259334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78A476-A999-41BC-8BA1-59A8DCD73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A5055B-9F31-42B0-91B6-0E4E5264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5DDD77-91E8-4246-8796-220630C0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61A607-36FD-4979-B307-CA4A2D499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1C33F1-786B-4334-AF18-88967CF0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9E279B-00C1-4DE0-B329-1D5D639C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0FEFF3-8025-4B63-9502-B6451E61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FA7DA1-34B2-4D69-AC33-B1D4C1252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829C7D-F2A0-4CF9-AB09-43D696DB1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9FB58D-BEC8-47A0-93FC-5267808A0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903C3A-29B5-4741-85AA-958D8890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616E39-1AE8-4B46-BF8A-426D4D2A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B84ADC-2143-4518-8437-DE0D4091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C1A16E-37B9-4B8E-B17B-8ED6FA44C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ADF228-CEA0-4E06-BD16-E58380DC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AFD785-E1F5-494E-B1A0-D1793F725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FA9174-A754-4F6A-A0EC-A926962A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D0DE82-391C-42D3-A370-FA22D0C0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314B40-4737-4D77-8B49-72A629EC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D0499F-0402-47B1-9238-7574D3B1B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8400A0-628D-4AEB-A57E-81548D33F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85CDF1-7D28-4B00-8A12-003C01CAB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0100F1-0AF6-4296-B03C-E5081B45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69C0D3-8672-479D-A161-CCEFC8A8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DB67F0-5BF4-428B-A983-6B5321B8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ACDAD9-16D0-4B40-9E60-A45C8118A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F1111D-2DC1-4578-A338-0FD74EFF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A7C544-564F-47EA-9D46-AE042A6A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94E4D2-2C0C-4F68-9F44-90A8A2E81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C5C67E-AA87-471F-A3E7-F56DC609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1EEFCD-4867-4C58-B582-115ABB6C1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E60DAA-B3D5-45B0-BB98-76C335A04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BD60-253A-483D-8B8C-C06355F8D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07B6-E15D-45CC-ADE7-9A707209B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C117-0F21-4B87-8959-9F3C7B264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9F01-4F48-4446-80D1-E2EBB24B7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ABED-FB49-4AE1-97AB-0396FAC45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AEFC-6C6B-453B-818B-A62F20866C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6536-6156-4E99-83B3-75866E49B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F779-B8A8-4CF7-8662-754B9E293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DD8E-A14D-4817-B16B-741DF0B42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6270-8422-4A7E-A49D-210C7DD1B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FE00-0B4D-4344-83E2-08679D443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E9A5-BB0C-4ED6-A18E-24AAAD22F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file:///C:/Documents%20and%20Settings/kristen/Desktop/cscu.jpg"/>
          <p:cNvPicPr/>
          <p:nvPr/>
        </p:nvPicPr>
        <p:blipFill>
          <a:blip r:embed="rId2"/>
          <a:stretch/>
        </p:blipFill>
        <p:spPr>
          <a:xfrm>
            <a:off x="304920" y="304920"/>
            <a:ext cx="952560" cy="77148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58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D283-5965-400E-8E74-3BDEB9552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sp.gatech.edu/games/tspOnePlayer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sp.gatech.edu/sweden/tours/anim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laymath.org/millennium/P_vs_NP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inimum_spanning_tre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305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hard is it to solve a problem?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90720" y="54100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fore computers became commercially available, the term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literally meant "one who computes": a person performing mathematical calcul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766px-Human_computers_-_Dryden"/>
          <p:cNvPicPr/>
          <p:nvPr/>
        </p:nvPicPr>
        <p:blipFill>
          <a:blip r:embed="rId1"/>
          <a:stretch/>
        </p:blipFill>
        <p:spPr>
          <a:xfrm>
            <a:off x="2209680" y="2114640"/>
            <a:ext cx="3867120" cy="30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logo"/>
          <p:cNvPicPr/>
          <p:nvPr/>
        </p:nvPicPr>
        <p:blipFill>
          <a:blip r:embed="rId2"/>
          <a:stretch/>
        </p:blipFill>
        <p:spPr>
          <a:xfrm>
            <a:off x="457200" y="685800"/>
            <a:ext cx="1162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9F00-068E-465E-A21C-B841A1EC7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6 possible rou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371600"/>
          <a:ext cx="8229600" cy="4726080"/>
        </p:xfrm>
        <a:graphic>
          <a:graphicData uri="http://schemas.openxmlformats.org/drawingml/2006/table">
            <a:tbl>
              <a:tblPr/>
              <a:tblGrid>
                <a:gridCol w="828720"/>
                <a:gridCol w="1233360"/>
                <a:gridCol w="1233720"/>
                <a:gridCol w="1233360"/>
                <a:gridCol w="1233360"/>
                <a:gridCol w="1233720"/>
                <a:gridCol w="12333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E7D2-D17D-484E-82A1-06CA2E1E5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Efficiently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ps! You also have to drop by University Housewares to pick up a baking 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much harder is the problem with four errands instead of th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67080" y="1371600"/>
          <a:ext cx="4419720" cy="5181480"/>
        </p:xfrm>
        <a:graphic>
          <a:graphicData uri="http://schemas.openxmlformats.org/drawingml/2006/table">
            <a:tbl>
              <a:tblPr/>
              <a:tblGrid>
                <a:gridCol w="736560"/>
                <a:gridCol w="765360"/>
                <a:gridCol w="708120"/>
                <a:gridCol w="736560"/>
                <a:gridCol w="736560"/>
                <a:gridCol w="7365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B9D-1026-4A07-9743-9C4520C8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8915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762120" y="914400"/>
          <a:ext cx="75708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5708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1A3E-B76A-49CD-A4DD-B9250DCBC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Efficiently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8" name="Object 909"/>
          <p:cNvGraphicFramePr/>
          <p:nvPr/>
        </p:nvGraphicFramePr>
        <p:xfrm>
          <a:off x="1847880" y="1581120"/>
          <a:ext cx="544824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9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581120"/>
                    <a:ext cx="54482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51E-5656-4CA0-90E0-BB665B6A1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Efficiently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 general, if you have N errands, how many possible different ways are there to run all your err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raveling Salesman Problem (TSP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B2A4-C0DD-477F-B682-8C75D6BC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raveling Salesman Problem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list of cities and the costs of traveling from any city to any other city, what is the least-cost round-trip route that visits each city exactly once and then returns to the starting 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ow is this simila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problem of ru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rra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C:\Documents and Settings\kristen.WIN-CS\Desktop\usapoints.jpg"/>
          <p:cNvPicPr/>
          <p:nvPr/>
        </p:nvPicPr>
        <p:blipFill>
          <a:blip r:embed="rId1"/>
          <a:stretch/>
        </p:blipFill>
        <p:spPr>
          <a:xfrm>
            <a:off x="4114800" y="3124080"/>
            <a:ext cx="49230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CE55-D6CF-4C31-B44B-DA1ED46A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it take to find all possible ro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lgorithm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29000" y="39625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xkcd.com/39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3" descr="tsp"/>
          <p:cNvPicPr/>
          <p:nvPr/>
        </p:nvPicPr>
        <p:blipFill>
          <a:blip r:embed="rId1"/>
          <a:stretch/>
        </p:blipFill>
        <p:spPr>
          <a:xfrm>
            <a:off x="1789200" y="1371600"/>
            <a:ext cx="556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2A3-52E5-4DF0-BCB9-6B9D8A184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52280" y="2895480"/>
            <a:ext cx="8610840" cy="19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raveling Salesman Problem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280" y="1676520"/>
          <a:ext cx="8596440" cy="384804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1052640"/>
                <a:gridCol w="2529000"/>
                <a:gridCol w="11286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ities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te Force (N!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algorithm (N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98"/>
          <p:cNvSpPr/>
          <p:nvPr/>
        </p:nvSpPr>
        <p:spPr>
          <a:xfrm>
            <a:off x="533520" y="594360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computer can calculate the cos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ill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a calculato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958D-7097-441C-86EB-FC781FBB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raveling Salesman Problem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1676520"/>
          <a:ext cx="8596440" cy="384804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357200"/>
                <a:gridCol w="2224080"/>
                <a:gridCol w="14335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ities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te Force (N!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Algorithm (N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82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3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7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3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88"/>
          <p:cNvSpPr/>
          <p:nvPr/>
        </p:nvSpPr>
        <p:spPr>
          <a:xfrm>
            <a:off x="533520" y="594360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computer can calculate the cos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ill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a calculato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1697-9E87-411A-9BE0-58B5A12F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Gulim"/>
              </a:rPr>
              <a:t>Checking TSP Solu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ow long does it take to check whether a solution to TSP fits this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Verify that a given path is of length less than or equal to some value K, such that the path visits all c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about this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ind the shortest path that visits all c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DB7D-118D-43B6-89E7-EBEA05354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SP in the real worl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, companies like FedEx are satisfied if they can get “reasonably close” to the optim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Tour Finder game to see how close you can 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sp.gatech.edu/games/tspOnePlay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A559-B5D0-4B85-9BDF-52CBF93AB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lving TSP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uristic is used to provide an estimate of the shortes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ute is then refined until a provably-optimal solution i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largest TSPs ever solved includes all 24,978 cities, towns, and villages in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sp.gatech.edu/sweden/tours/anim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Fun with Facebook!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42E9-3A8A-4945-B0BC-0A5F144A5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qu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graph is a group of nodes that are completely inter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ocial network, it could refer to a group of people who are all friends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ther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clique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766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B694-A379-4E03-8E93-892D65284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qu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iggest clique in the Simpsons 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make a clique of one size larger by adding just one edge? How about two sizes lar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does it take to check whether a set of nodes forms a cliq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4269-E05B-41F9-9AFD-F67A36013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933480" cy="1057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669960" cy="128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644400" cy="1033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4"/>
          <a:stretch/>
        </p:blipFill>
        <p:spPr>
          <a:xfrm>
            <a:off x="7620120" y="3048120"/>
            <a:ext cx="1028520" cy="952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iendships on a grap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586880" y="1636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83760" y="3429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573800" y="1905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937200" y="30481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870160" y="48769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4345920" y="57913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350748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069200" y="5943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 flipH="1">
            <a:off x="1295280" y="1981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990720" y="380988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 flipV="1">
            <a:off x="2133720" y="60195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4038480" y="3962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1219320" y="3809880"/>
            <a:ext cx="3124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371600" y="36576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057400" y="198108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438280" y="182880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 flipV="1">
            <a:off x="4191120" y="22096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5105520" y="22096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5"/>
          <p:cNvSpPr/>
          <p:nvPr/>
        </p:nvSpPr>
        <p:spPr>
          <a:xfrm flipH="1">
            <a:off x="6400440" y="3276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480024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7" descr=""/>
          <p:cNvPicPr/>
          <p:nvPr/>
        </p:nvPicPr>
        <p:blipFill>
          <a:blip r:embed="rId5"/>
          <a:stretch/>
        </p:blipFill>
        <p:spPr>
          <a:xfrm>
            <a:off x="6705720" y="4876920"/>
            <a:ext cx="745920" cy="838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8" descr=""/>
          <p:cNvPicPr/>
          <p:nvPr/>
        </p:nvPicPr>
        <p:blipFill>
          <a:blip r:embed="rId6"/>
          <a:stretch/>
        </p:blipFill>
        <p:spPr>
          <a:xfrm>
            <a:off x="304920" y="568800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9" descr=""/>
          <p:cNvPicPr/>
          <p:nvPr/>
        </p:nvPicPr>
        <p:blipFill>
          <a:blip r:embed="rId7"/>
          <a:stretch/>
        </p:blipFill>
        <p:spPr>
          <a:xfrm>
            <a:off x="3581280" y="2209680"/>
            <a:ext cx="60336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0" descr=""/>
          <p:cNvPicPr/>
          <p:nvPr/>
        </p:nvPicPr>
        <p:blipFill>
          <a:blip r:embed="rId8"/>
          <a:stretch/>
        </p:blipFill>
        <p:spPr>
          <a:xfrm>
            <a:off x="5029200" y="5653080"/>
            <a:ext cx="768240" cy="1204920"/>
          </a:xfrm>
          <a:prstGeom prst="rect">
            <a:avLst/>
          </a:prstGeom>
          <a:ln w="0">
            <a:noFill/>
          </a:ln>
        </p:spPr>
      </p:pic>
      <p:sp>
        <p:nvSpPr>
          <p:cNvPr id="251" name="Line 31"/>
          <p:cNvSpPr/>
          <p:nvPr/>
        </p:nvSpPr>
        <p:spPr>
          <a:xfrm flipH="1">
            <a:off x="4647960" y="2286000"/>
            <a:ext cx="228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2B9-27B1-402C-91F2-66F273004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qu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lgorithms for finding cliques of size 3, 4, 5, etc. in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general algorithm for finding the biggest clique in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0565-A8EB-4FF6-840F-FBDD2D0D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hat’s the largest clique?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78120" y="1527120"/>
            <a:ext cx="9068760" cy="4725720"/>
            <a:chOff x="78120" y="1527120"/>
            <a:chExt cx="9068760" cy="4725720"/>
          </a:xfrm>
        </p:grpSpPr>
        <p:sp>
          <p:nvSpPr>
            <p:cNvPr id="258" name="Text Box 4"/>
            <p:cNvSpPr/>
            <p:nvPr/>
          </p:nvSpPr>
          <p:spPr>
            <a:xfrm>
              <a:off x="2043000" y="1527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"/>
            <p:cNvSpPr/>
            <p:nvPr/>
          </p:nvSpPr>
          <p:spPr>
            <a:xfrm>
              <a:off x="2135520" y="2889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6"/>
            <p:cNvSpPr/>
            <p:nvPr/>
          </p:nvSpPr>
          <p:spPr>
            <a:xfrm>
              <a:off x="3812760" y="18604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7"/>
            <p:cNvSpPr/>
            <p:nvPr/>
          </p:nvSpPr>
          <p:spPr>
            <a:xfrm>
              <a:off x="4879800" y="363852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8"/>
            <p:cNvSpPr/>
            <p:nvPr/>
          </p:nvSpPr>
          <p:spPr>
            <a:xfrm>
              <a:off x="2364120" y="410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"/>
            <p:cNvSpPr/>
            <p:nvPr/>
          </p:nvSpPr>
          <p:spPr>
            <a:xfrm>
              <a:off x="5793840" y="195408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7927200" y="27025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is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1"/>
            <p:cNvSpPr/>
            <p:nvPr/>
          </p:nvSpPr>
          <p:spPr>
            <a:xfrm>
              <a:off x="3507480" y="29833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rri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2"/>
            <p:cNvSpPr/>
            <p:nvPr/>
          </p:nvSpPr>
          <p:spPr>
            <a:xfrm>
              <a:off x="4803120" y="5042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ab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6174720" y="429336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sm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78120" y="3825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840960" y="23281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u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1679040" y="541656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3965400" y="588456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ic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7241040" y="17665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s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9"/>
            <p:cNvSpPr/>
            <p:nvPr/>
          </p:nvSpPr>
          <p:spPr>
            <a:xfrm>
              <a:off x="8004600" y="354492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n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0"/>
            <p:cNvSpPr/>
            <p:nvPr/>
          </p:nvSpPr>
          <p:spPr>
            <a:xfrm>
              <a:off x="6555600" y="579096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ti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1"/>
            <p:cNvSpPr/>
            <p:nvPr/>
          </p:nvSpPr>
          <p:spPr>
            <a:xfrm>
              <a:off x="687960" y="50425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2"/>
            <p:cNvSpPr/>
            <p:nvPr/>
          </p:nvSpPr>
          <p:spPr>
            <a:xfrm>
              <a:off x="5717160" y="32641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3"/>
            <p:cNvSpPr/>
            <p:nvPr/>
          </p:nvSpPr>
          <p:spPr>
            <a:xfrm>
              <a:off x="7851600" y="485496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o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4"/>
            <p:cNvSpPr/>
            <p:nvPr/>
          </p:nvSpPr>
          <p:spPr>
            <a:xfrm>
              <a:off x="2822040" y="56037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n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5"/>
            <p:cNvSpPr/>
            <p:nvPr/>
          </p:nvSpPr>
          <p:spPr>
            <a:xfrm>
              <a:off x="4726800" y="26089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u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6"/>
            <p:cNvSpPr/>
            <p:nvPr/>
          </p:nvSpPr>
          <p:spPr>
            <a:xfrm flipV="1">
              <a:off x="533520" y="2680920"/>
              <a:ext cx="533160" cy="13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7"/>
            <p:cNvSpPr/>
            <p:nvPr/>
          </p:nvSpPr>
          <p:spPr>
            <a:xfrm>
              <a:off x="533520" y="4084560"/>
              <a:ext cx="30456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533520" y="3148920"/>
              <a:ext cx="167616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>
              <a:off x="1371600" y="2587680"/>
              <a:ext cx="8380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0"/>
            <p:cNvSpPr/>
            <p:nvPr/>
          </p:nvSpPr>
          <p:spPr>
            <a:xfrm flipV="1">
              <a:off x="914400" y="3242160"/>
              <a:ext cx="1295280" cy="19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1"/>
            <p:cNvSpPr/>
            <p:nvPr/>
          </p:nvSpPr>
          <p:spPr>
            <a:xfrm flipH="1">
              <a:off x="914040" y="2680920"/>
              <a:ext cx="228600" cy="24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2"/>
            <p:cNvSpPr/>
            <p:nvPr/>
          </p:nvSpPr>
          <p:spPr>
            <a:xfrm>
              <a:off x="2286000" y="1932480"/>
              <a:ext cx="7632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3"/>
            <p:cNvSpPr/>
            <p:nvPr/>
          </p:nvSpPr>
          <p:spPr>
            <a:xfrm flipV="1">
              <a:off x="1371600" y="1838520"/>
              <a:ext cx="762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2438280" y="3242520"/>
              <a:ext cx="1526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5"/>
            <p:cNvSpPr/>
            <p:nvPr/>
          </p:nvSpPr>
          <p:spPr>
            <a:xfrm flipV="1">
              <a:off x="1371600" y="2119320"/>
              <a:ext cx="25146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6"/>
            <p:cNvSpPr/>
            <p:nvPr/>
          </p:nvSpPr>
          <p:spPr>
            <a:xfrm flipH="1">
              <a:off x="3733920" y="2213280"/>
              <a:ext cx="304560" cy="9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7"/>
            <p:cNvSpPr/>
            <p:nvPr/>
          </p:nvSpPr>
          <p:spPr>
            <a:xfrm flipV="1">
              <a:off x="2819520" y="3335760"/>
              <a:ext cx="838080" cy="9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8"/>
            <p:cNvSpPr/>
            <p:nvPr/>
          </p:nvSpPr>
          <p:spPr>
            <a:xfrm flipV="1">
              <a:off x="3809880" y="2868120"/>
              <a:ext cx="99072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9"/>
            <p:cNvSpPr/>
            <p:nvPr/>
          </p:nvSpPr>
          <p:spPr>
            <a:xfrm>
              <a:off x="4114800" y="2213280"/>
              <a:ext cx="68580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0"/>
            <p:cNvSpPr/>
            <p:nvPr/>
          </p:nvSpPr>
          <p:spPr>
            <a:xfrm>
              <a:off x="4952880" y="2961720"/>
              <a:ext cx="7632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1"/>
            <p:cNvSpPr/>
            <p:nvPr/>
          </p:nvSpPr>
          <p:spPr>
            <a:xfrm>
              <a:off x="4038480" y="2213280"/>
              <a:ext cx="990720" cy="15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2"/>
            <p:cNvSpPr/>
            <p:nvPr/>
          </p:nvSpPr>
          <p:spPr>
            <a:xfrm flipV="1">
              <a:off x="4343400" y="3990960"/>
              <a:ext cx="609480" cy="19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3"/>
            <p:cNvSpPr/>
            <p:nvPr/>
          </p:nvSpPr>
          <p:spPr>
            <a:xfrm>
              <a:off x="3809880" y="3336120"/>
              <a:ext cx="533520" cy="262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4"/>
            <p:cNvSpPr/>
            <p:nvPr/>
          </p:nvSpPr>
          <p:spPr>
            <a:xfrm>
              <a:off x="4038480" y="2306880"/>
              <a:ext cx="30492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5"/>
            <p:cNvSpPr/>
            <p:nvPr/>
          </p:nvSpPr>
          <p:spPr>
            <a:xfrm flipV="1">
              <a:off x="4343400" y="2961360"/>
              <a:ext cx="457200" cy="29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6"/>
            <p:cNvSpPr/>
            <p:nvPr/>
          </p:nvSpPr>
          <p:spPr>
            <a:xfrm>
              <a:off x="2514600" y="3242520"/>
              <a:ext cx="1828800" cy="27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7"/>
            <p:cNvSpPr/>
            <p:nvPr/>
          </p:nvSpPr>
          <p:spPr>
            <a:xfrm flipH="1">
              <a:off x="1904760" y="4459320"/>
              <a:ext cx="60948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8"/>
            <p:cNvSpPr/>
            <p:nvPr/>
          </p:nvSpPr>
          <p:spPr>
            <a:xfrm>
              <a:off x="2666880" y="4459320"/>
              <a:ext cx="457200" cy="13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9"/>
            <p:cNvSpPr/>
            <p:nvPr/>
          </p:nvSpPr>
          <p:spPr>
            <a:xfrm flipH="1">
              <a:off x="1905120" y="3336120"/>
              <a:ext cx="380880" cy="22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0"/>
            <p:cNvSpPr/>
            <p:nvPr/>
          </p:nvSpPr>
          <p:spPr>
            <a:xfrm flipV="1">
              <a:off x="3124080" y="3335760"/>
              <a:ext cx="533520" cy="23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1"/>
            <p:cNvSpPr/>
            <p:nvPr/>
          </p:nvSpPr>
          <p:spPr>
            <a:xfrm flipV="1">
              <a:off x="990720" y="2213280"/>
              <a:ext cx="2971800" cy="29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2"/>
            <p:cNvSpPr/>
            <p:nvPr/>
          </p:nvSpPr>
          <p:spPr>
            <a:xfrm flipV="1">
              <a:off x="4952880" y="2212920"/>
              <a:ext cx="83844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3"/>
            <p:cNvSpPr/>
            <p:nvPr/>
          </p:nvSpPr>
          <p:spPr>
            <a:xfrm flipH="1">
              <a:off x="5181480" y="2306880"/>
              <a:ext cx="60984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54"/>
            <p:cNvSpPr/>
            <p:nvPr/>
          </p:nvSpPr>
          <p:spPr>
            <a:xfrm flipV="1">
              <a:off x="6248520" y="2025720"/>
              <a:ext cx="106668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55"/>
            <p:cNvSpPr/>
            <p:nvPr/>
          </p:nvSpPr>
          <p:spPr>
            <a:xfrm>
              <a:off x="6324480" y="2213280"/>
              <a:ext cx="1600200" cy="28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6"/>
            <p:cNvSpPr/>
            <p:nvPr/>
          </p:nvSpPr>
          <p:spPr>
            <a:xfrm flipH="1">
              <a:off x="6553080" y="2119320"/>
              <a:ext cx="914400" cy="23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57"/>
            <p:cNvSpPr/>
            <p:nvPr/>
          </p:nvSpPr>
          <p:spPr>
            <a:xfrm flipH="1">
              <a:off x="5181120" y="2306880"/>
              <a:ext cx="762120" cy="29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58"/>
            <p:cNvSpPr/>
            <p:nvPr/>
          </p:nvSpPr>
          <p:spPr>
            <a:xfrm flipV="1">
              <a:off x="5334120" y="5114160"/>
              <a:ext cx="259056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9"/>
            <p:cNvSpPr/>
            <p:nvPr/>
          </p:nvSpPr>
          <p:spPr>
            <a:xfrm>
              <a:off x="7467480" y="2119320"/>
              <a:ext cx="457200" cy="29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60"/>
            <p:cNvSpPr/>
            <p:nvPr/>
          </p:nvSpPr>
          <p:spPr>
            <a:xfrm flipV="1">
              <a:off x="5257800" y="4645800"/>
              <a:ext cx="10666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61"/>
            <p:cNvSpPr/>
            <p:nvPr/>
          </p:nvSpPr>
          <p:spPr>
            <a:xfrm flipV="1">
              <a:off x="5181480" y="2119320"/>
              <a:ext cx="2210040" cy="30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2"/>
            <p:cNvSpPr/>
            <p:nvPr/>
          </p:nvSpPr>
          <p:spPr>
            <a:xfrm>
              <a:off x="6858000" y="4646160"/>
              <a:ext cx="106668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3"/>
            <p:cNvSpPr/>
            <p:nvPr/>
          </p:nvSpPr>
          <p:spPr>
            <a:xfrm>
              <a:off x="6172200" y="2306880"/>
              <a:ext cx="304920" cy="21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4"/>
            <p:cNvSpPr/>
            <p:nvPr/>
          </p:nvSpPr>
          <p:spPr>
            <a:xfrm flipV="1">
              <a:off x="5943600" y="2306520"/>
              <a:ext cx="7632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5"/>
            <p:cNvSpPr/>
            <p:nvPr/>
          </p:nvSpPr>
          <p:spPr>
            <a:xfrm flipV="1">
              <a:off x="5181480" y="3522960"/>
              <a:ext cx="60984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6"/>
            <p:cNvSpPr/>
            <p:nvPr/>
          </p:nvSpPr>
          <p:spPr>
            <a:xfrm flipV="1">
              <a:off x="4343400" y="5394960"/>
              <a:ext cx="6094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7"/>
            <p:cNvSpPr/>
            <p:nvPr/>
          </p:nvSpPr>
          <p:spPr>
            <a:xfrm>
              <a:off x="1066680" y="5395320"/>
              <a:ext cx="68580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8"/>
            <p:cNvSpPr/>
            <p:nvPr/>
          </p:nvSpPr>
          <p:spPr>
            <a:xfrm>
              <a:off x="4343400" y="5956560"/>
              <a:ext cx="228600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9"/>
            <p:cNvSpPr/>
            <p:nvPr/>
          </p:nvSpPr>
          <p:spPr>
            <a:xfrm flipH="1">
              <a:off x="6781320" y="2119320"/>
              <a:ext cx="68580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0"/>
            <p:cNvSpPr/>
            <p:nvPr/>
          </p:nvSpPr>
          <p:spPr>
            <a:xfrm flipH="1" flipV="1">
              <a:off x="7543440" y="2119320"/>
              <a:ext cx="609480" cy="74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71"/>
            <p:cNvSpPr/>
            <p:nvPr/>
          </p:nvSpPr>
          <p:spPr>
            <a:xfrm>
              <a:off x="5181480" y="28684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72"/>
            <p:cNvSpPr/>
            <p:nvPr/>
          </p:nvSpPr>
          <p:spPr>
            <a:xfrm flipH="1">
              <a:off x="8001000" y="3897720"/>
              <a:ext cx="38088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73"/>
            <p:cNvSpPr/>
            <p:nvPr/>
          </p:nvSpPr>
          <p:spPr>
            <a:xfrm flipV="1">
              <a:off x="6781680" y="3055320"/>
              <a:ext cx="1295640" cy="28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74"/>
            <p:cNvSpPr/>
            <p:nvPr/>
          </p:nvSpPr>
          <p:spPr>
            <a:xfrm>
              <a:off x="2666880" y="4459320"/>
              <a:ext cx="1676520" cy="149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5"/>
            <p:cNvSpPr/>
            <p:nvPr/>
          </p:nvSpPr>
          <p:spPr>
            <a:xfrm flipV="1">
              <a:off x="3124080" y="2961720"/>
              <a:ext cx="4876920" cy="28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76"/>
            <p:cNvSpPr/>
            <p:nvPr/>
          </p:nvSpPr>
          <p:spPr>
            <a:xfrm>
              <a:off x="2590920" y="3149280"/>
              <a:ext cx="4190760" cy="27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8A64-E89F-412C-86DC-8FC1A266F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hat’s the largest clique?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036880" y="1523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129040" y="2887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806280" y="18572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4873320" y="36352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2357640" y="41036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787360" y="1951200"/>
            <a:ext cx="750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7921080" y="2700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3501360" y="297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4796640" y="5038560"/>
            <a:ext cx="788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6168600" y="4290840"/>
            <a:ext cx="1029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71640" y="3822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834840" y="23256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1672560" y="5413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3958920" y="58816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8"/>
          <p:cNvSpPr/>
          <p:nvPr/>
        </p:nvSpPr>
        <p:spPr>
          <a:xfrm>
            <a:off x="7234920" y="1763640"/>
            <a:ext cx="966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s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7998120" y="3541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6549480" y="5788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1"/>
          <p:cNvSpPr/>
          <p:nvPr/>
        </p:nvSpPr>
        <p:spPr>
          <a:xfrm>
            <a:off x="681480" y="50385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5710680" y="3260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7845120" y="4853160"/>
            <a:ext cx="108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2815560" y="5600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4720680" y="26067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6"/>
          <p:cNvSpPr/>
          <p:nvPr/>
        </p:nvSpPr>
        <p:spPr>
          <a:xfrm flipV="1">
            <a:off x="527040" y="2678040"/>
            <a:ext cx="533520" cy="13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7"/>
          <p:cNvSpPr/>
          <p:nvPr/>
        </p:nvSpPr>
        <p:spPr>
          <a:xfrm>
            <a:off x="527040" y="4081320"/>
            <a:ext cx="30492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8"/>
          <p:cNvSpPr/>
          <p:nvPr/>
        </p:nvSpPr>
        <p:spPr>
          <a:xfrm flipV="1">
            <a:off x="527040" y="3146040"/>
            <a:ext cx="167652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9"/>
          <p:cNvSpPr/>
          <p:nvPr/>
        </p:nvSpPr>
        <p:spPr>
          <a:xfrm>
            <a:off x="1365120" y="2584440"/>
            <a:ext cx="8384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0"/>
          <p:cNvSpPr/>
          <p:nvPr/>
        </p:nvSpPr>
        <p:spPr>
          <a:xfrm flipV="1">
            <a:off x="907920" y="3239640"/>
            <a:ext cx="1295640" cy="19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1"/>
          <p:cNvSpPr/>
          <p:nvPr/>
        </p:nvSpPr>
        <p:spPr>
          <a:xfrm flipH="1">
            <a:off x="907560" y="2678040"/>
            <a:ext cx="228600" cy="24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2"/>
          <p:cNvSpPr/>
          <p:nvPr/>
        </p:nvSpPr>
        <p:spPr>
          <a:xfrm>
            <a:off x="2279520" y="1928880"/>
            <a:ext cx="7632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1365120" y="1836360"/>
            <a:ext cx="7621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4"/>
          <p:cNvSpPr/>
          <p:nvPr/>
        </p:nvSpPr>
        <p:spPr>
          <a:xfrm>
            <a:off x="2432160" y="3240000"/>
            <a:ext cx="15228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5"/>
          <p:cNvSpPr/>
          <p:nvPr/>
        </p:nvSpPr>
        <p:spPr>
          <a:xfrm flipV="1">
            <a:off x="1365120" y="2115720"/>
            <a:ext cx="251460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6"/>
          <p:cNvSpPr/>
          <p:nvPr/>
        </p:nvSpPr>
        <p:spPr>
          <a:xfrm flipH="1">
            <a:off x="3727080" y="2209680"/>
            <a:ext cx="304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7"/>
          <p:cNvSpPr/>
          <p:nvPr/>
        </p:nvSpPr>
        <p:spPr>
          <a:xfrm flipV="1">
            <a:off x="2813040" y="3333600"/>
            <a:ext cx="83808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8"/>
          <p:cNvSpPr/>
          <p:nvPr/>
        </p:nvSpPr>
        <p:spPr>
          <a:xfrm flipV="1">
            <a:off x="3803760" y="2865600"/>
            <a:ext cx="99036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9"/>
          <p:cNvSpPr/>
          <p:nvPr/>
        </p:nvSpPr>
        <p:spPr>
          <a:xfrm>
            <a:off x="4108320" y="2209680"/>
            <a:ext cx="685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0"/>
          <p:cNvSpPr/>
          <p:nvPr/>
        </p:nvSpPr>
        <p:spPr>
          <a:xfrm>
            <a:off x="4946760" y="2959200"/>
            <a:ext cx="75960" cy="84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1"/>
          <p:cNvSpPr/>
          <p:nvPr/>
        </p:nvSpPr>
        <p:spPr>
          <a:xfrm>
            <a:off x="4032360" y="2209680"/>
            <a:ext cx="990360" cy="15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2"/>
          <p:cNvSpPr/>
          <p:nvPr/>
        </p:nvSpPr>
        <p:spPr>
          <a:xfrm flipV="1">
            <a:off x="4336920" y="3987720"/>
            <a:ext cx="609840" cy="19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3"/>
          <p:cNvSpPr/>
          <p:nvPr/>
        </p:nvSpPr>
        <p:spPr>
          <a:xfrm>
            <a:off x="3803760" y="3333600"/>
            <a:ext cx="533160" cy="262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4032360" y="2303640"/>
            <a:ext cx="304560" cy="365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336920" y="2958840"/>
            <a:ext cx="457200" cy="29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6"/>
          <p:cNvSpPr/>
          <p:nvPr/>
        </p:nvSpPr>
        <p:spPr>
          <a:xfrm>
            <a:off x="2508120" y="3240000"/>
            <a:ext cx="182880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7"/>
          <p:cNvSpPr/>
          <p:nvPr/>
        </p:nvSpPr>
        <p:spPr>
          <a:xfrm flipH="1">
            <a:off x="1898280" y="4456080"/>
            <a:ext cx="60948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8"/>
          <p:cNvSpPr/>
          <p:nvPr/>
        </p:nvSpPr>
        <p:spPr>
          <a:xfrm>
            <a:off x="2660760" y="4456080"/>
            <a:ext cx="457200" cy="13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9"/>
          <p:cNvSpPr/>
          <p:nvPr/>
        </p:nvSpPr>
        <p:spPr>
          <a:xfrm flipH="1">
            <a:off x="1898640" y="3333600"/>
            <a:ext cx="380880" cy="22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0"/>
          <p:cNvSpPr/>
          <p:nvPr/>
        </p:nvSpPr>
        <p:spPr>
          <a:xfrm flipV="1">
            <a:off x="3117960" y="3333600"/>
            <a:ext cx="53316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1"/>
          <p:cNvSpPr/>
          <p:nvPr/>
        </p:nvSpPr>
        <p:spPr>
          <a:xfrm flipV="1">
            <a:off x="984240" y="2209320"/>
            <a:ext cx="2971800" cy="29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2"/>
          <p:cNvSpPr/>
          <p:nvPr/>
        </p:nvSpPr>
        <p:spPr>
          <a:xfrm flipV="1">
            <a:off x="4946760" y="2209320"/>
            <a:ext cx="83808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3"/>
          <p:cNvSpPr/>
          <p:nvPr/>
        </p:nvSpPr>
        <p:spPr>
          <a:xfrm flipH="1">
            <a:off x="5175000" y="2303640"/>
            <a:ext cx="609480" cy="14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4"/>
          <p:cNvSpPr/>
          <p:nvPr/>
        </p:nvSpPr>
        <p:spPr>
          <a:xfrm flipV="1">
            <a:off x="6242040" y="2022480"/>
            <a:ext cx="1066680" cy="93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5"/>
          <p:cNvSpPr/>
          <p:nvPr/>
        </p:nvSpPr>
        <p:spPr>
          <a:xfrm>
            <a:off x="6318360" y="2209680"/>
            <a:ext cx="1600200" cy="280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6"/>
          <p:cNvSpPr/>
          <p:nvPr/>
        </p:nvSpPr>
        <p:spPr>
          <a:xfrm flipH="1">
            <a:off x="6546960" y="2116080"/>
            <a:ext cx="914400" cy="2340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7"/>
          <p:cNvSpPr/>
          <p:nvPr/>
        </p:nvSpPr>
        <p:spPr>
          <a:xfrm flipH="1">
            <a:off x="5175360" y="2303640"/>
            <a:ext cx="761760" cy="2901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8"/>
          <p:cNvSpPr/>
          <p:nvPr/>
        </p:nvSpPr>
        <p:spPr>
          <a:xfrm flipV="1">
            <a:off x="5327640" y="5111280"/>
            <a:ext cx="2590920" cy="1875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7461360" y="2116080"/>
            <a:ext cx="457200" cy="29019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0"/>
          <p:cNvSpPr/>
          <p:nvPr/>
        </p:nvSpPr>
        <p:spPr>
          <a:xfrm flipV="1">
            <a:off x="5251320" y="4642920"/>
            <a:ext cx="1067040" cy="5619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1"/>
          <p:cNvSpPr/>
          <p:nvPr/>
        </p:nvSpPr>
        <p:spPr>
          <a:xfrm flipV="1">
            <a:off x="5175360" y="2115720"/>
            <a:ext cx="2209680" cy="3089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2"/>
          <p:cNvSpPr/>
          <p:nvPr/>
        </p:nvSpPr>
        <p:spPr>
          <a:xfrm>
            <a:off x="6851520" y="4643280"/>
            <a:ext cx="1067040" cy="3747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63"/>
          <p:cNvSpPr/>
          <p:nvPr/>
        </p:nvSpPr>
        <p:spPr>
          <a:xfrm>
            <a:off x="6165720" y="2303640"/>
            <a:ext cx="304920" cy="2152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4"/>
          <p:cNvSpPr/>
          <p:nvPr/>
        </p:nvSpPr>
        <p:spPr>
          <a:xfrm flipV="1">
            <a:off x="5937120" y="2303280"/>
            <a:ext cx="76320" cy="10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5"/>
          <p:cNvSpPr/>
          <p:nvPr/>
        </p:nvSpPr>
        <p:spPr>
          <a:xfrm flipV="1">
            <a:off x="5175360" y="3521160"/>
            <a:ext cx="60948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6"/>
          <p:cNvSpPr/>
          <p:nvPr/>
        </p:nvSpPr>
        <p:spPr>
          <a:xfrm flipV="1">
            <a:off x="4336920" y="5392440"/>
            <a:ext cx="6098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67"/>
          <p:cNvSpPr/>
          <p:nvPr/>
        </p:nvSpPr>
        <p:spPr>
          <a:xfrm>
            <a:off x="1060560" y="5392800"/>
            <a:ext cx="68580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8"/>
          <p:cNvSpPr/>
          <p:nvPr/>
        </p:nvSpPr>
        <p:spPr>
          <a:xfrm>
            <a:off x="4336920" y="5954760"/>
            <a:ext cx="228600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69"/>
          <p:cNvSpPr/>
          <p:nvPr/>
        </p:nvSpPr>
        <p:spPr>
          <a:xfrm flipH="1">
            <a:off x="6775200" y="2116080"/>
            <a:ext cx="68580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0"/>
          <p:cNvSpPr/>
          <p:nvPr/>
        </p:nvSpPr>
        <p:spPr>
          <a:xfrm flipH="1" flipV="1">
            <a:off x="7537320" y="2116080"/>
            <a:ext cx="60984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1"/>
          <p:cNvSpPr/>
          <p:nvPr/>
        </p:nvSpPr>
        <p:spPr>
          <a:xfrm>
            <a:off x="5175360" y="28656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2"/>
          <p:cNvSpPr/>
          <p:nvPr/>
        </p:nvSpPr>
        <p:spPr>
          <a:xfrm flipH="1">
            <a:off x="7994160" y="3895560"/>
            <a:ext cx="381240" cy="11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73"/>
          <p:cNvSpPr/>
          <p:nvPr/>
        </p:nvSpPr>
        <p:spPr>
          <a:xfrm flipV="1">
            <a:off x="6775560" y="3052440"/>
            <a:ext cx="1295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4"/>
          <p:cNvSpPr/>
          <p:nvPr/>
        </p:nvSpPr>
        <p:spPr>
          <a:xfrm>
            <a:off x="2660760" y="4456080"/>
            <a:ext cx="167616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75"/>
          <p:cNvSpPr/>
          <p:nvPr/>
        </p:nvSpPr>
        <p:spPr>
          <a:xfrm flipV="1">
            <a:off x="3117960" y="2958840"/>
            <a:ext cx="487656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6"/>
          <p:cNvSpPr/>
          <p:nvPr/>
        </p:nvSpPr>
        <p:spPr>
          <a:xfrm>
            <a:off x="2584440" y="3146400"/>
            <a:ext cx="41911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A8A9-1519-4B50-9554-6509AD4A3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at home in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i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You wan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your library books to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up dinner a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estsid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some copying done a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illage Co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, you want to return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4648320" y="2133720"/>
          <a:ext cx="4038480" cy="30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03848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A5CA-EE0E-4D75-8581-49D9E934D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verag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ocial network, we can defin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er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group of people whose collective set of friends includes everyone in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llenge is to find the minimum cover (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are tw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coverage s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Peanuts graph. Can you come up with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maller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433880" y="36068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Char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12360" y="47386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525680" y="550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Lu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439000" y="42814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Sno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2973960" y="5195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2363760" y="6033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 flipV="1">
            <a:off x="914400" y="387504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2"/>
          <p:cNvSpPr/>
          <p:nvPr/>
        </p:nvSpPr>
        <p:spPr>
          <a:xfrm>
            <a:off x="1676520" y="387504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>
            <a:off x="1676520" y="387504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>
            <a:off x="2743200" y="45608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5"/>
          <p:cNvSpPr/>
          <p:nvPr/>
        </p:nvSpPr>
        <p:spPr>
          <a:xfrm flipV="1">
            <a:off x="1676520" y="456048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666880" y="4560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7"/>
          <p:cNvSpPr/>
          <p:nvPr/>
        </p:nvSpPr>
        <p:spPr>
          <a:xfrm>
            <a:off x="1905120" y="5856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3"/>
          <p:cNvSpPr/>
          <p:nvPr/>
        </p:nvSpPr>
        <p:spPr>
          <a:xfrm>
            <a:off x="5819760" y="36068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4"/>
          <p:cNvSpPr/>
          <p:nvPr/>
        </p:nvSpPr>
        <p:spPr>
          <a:xfrm>
            <a:off x="4995000" y="4738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5"/>
          <p:cNvSpPr/>
          <p:nvPr/>
        </p:nvSpPr>
        <p:spPr>
          <a:xfrm>
            <a:off x="5910120" y="550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Lu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6825600" y="42814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7"/>
          <p:cNvSpPr/>
          <p:nvPr/>
        </p:nvSpPr>
        <p:spPr>
          <a:xfrm>
            <a:off x="7357680" y="51958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Wood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6748200" y="6033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9"/>
          <p:cNvSpPr/>
          <p:nvPr/>
        </p:nvSpPr>
        <p:spPr>
          <a:xfrm flipV="1">
            <a:off x="5299200" y="387504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0"/>
          <p:cNvSpPr/>
          <p:nvPr/>
        </p:nvSpPr>
        <p:spPr>
          <a:xfrm>
            <a:off x="6060960" y="387504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1"/>
          <p:cNvSpPr/>
          <p:nvPr/>
        </p:nvSpPr>
        <p:spPr>
          <a:xfrm>
            <a:off x="6060960" y="387504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2"/>
          <p:cNvSpPr/>
          <p:nvPr/>
        </p:nvSpPr>
        <p:spPr>
          <a:xfrm>
            <a:off x="7128000" y="45608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3"/>
          <p:cNvSpPr/>
          <p:nvPr/>
        </p:nvSpPr>
        <p:spPr>
          <a:xfrm flipV="1">
            <a:off x="6060960" y="4560480"/>
            <a:ext cx="9907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4"/>
          <p:cNvSpPr/>
          <p:nvPr/>
        </p:nvSpPr>
        <p:spPr>
          <a:xfrm>
            <a:off x="7051680" y="4560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5"/>
          <p:cNvSpPr/>
          <p:nvPr/>
        </p:nvSpPr>
        <p:spPr>
          <a:xfrm>
            <a:off x="6289560" y="58561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7" descr="snoopyandwood"/>
          <p:cNvPicPr/>
          <p:nvPr/>
        </p:nvPicPr>
        <p:blipFill>
          <a:blip r:embed="rId1"/>
          <a:stretch/>
        </p:blipFill>
        <p:spPr>
          <a:xfrm>
            <a:off x="7746840" y="0"/>
            <a:ext cx="1397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DD4-13D7-403C-936D-2299581C3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verag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inimum coverage set in the Simpsons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it take to check whether a set of nodes is a coverage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n algorithm to find the minimum coverag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24BF-9E1B-4D0F-A729-482276124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933480" cy="10573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669960" cy="12859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644400" cy="1033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4"/>
          <a:stretch/>
        </p:blipFill>
        <p:spPr>
          <a:xfrm>
            <a:off x="7620120" y="3048120"/>
            <a:ext cx="1028520" cy="952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iendships on a grap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1586880" y="1636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83760" y="3429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4573800" y="1905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6937200" y="30481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5870160" y="48769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4345920" y="57913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350748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069200" y="5943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"/>
          <p:cNvSpPr/>
          <p:nvPr/>
        </p:nvSpPr>
        <p:spPr>
          <a:xfrm flipH="1">
            <a:off x="1295280" y="1981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6"/>
          <p:cNvSpPr/>
          <p:nvPr/>
        </p:nvSpPr>
        <p:spPr>
          <a:xfrm>
            <a:off x="990720" y="380988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 flipV="1">
            <a:off x="2133720" y="60195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4038480" y="3962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1219320" y="3809880"/>
            <a:ext cx="3124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0"/>
          <p:cNvSpPr/>
          <p:nvPr/>
        </p:nvSpPr>
        <p:spPr>
          <a:xfrm>
            <a:off x="1371600" y="36576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1"/>
          <p:cNvSpPr/>
          <p:nvPr/>
        </p:nvSpPr>
        <p:spPr>
          <a:xfrm>
            <a:off x="2057400" y="198108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2"/>
          <p:cNvSpPr/>
          <p:nvPr/>
        </p:nvSpPr>
        <p:spPr>
          <a:xfrm>
            <a:off x="2438280" y="182880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4191120" y="22096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5105520" y="22096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6400440" y="3276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6"/>
          <p:cNvSpPr/>
          <p:nvPr/>
        </p:nvSpPr>
        <p:spPr>
          <a:xfrm flipH="1">
            <a:off x="480024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7" descr=""/>
          <p:cNvPicPr/>
          <p:nvPr/>
        </p:nvPicPr>
        <p:blipFill>
          <a:blip r:embed="rId5"/>
          <a:stretch/>
        </p:blipFill>
        <p:spPr>
          <a:xfrm>
            <a:off x="6705720" y="4876920"/>
            <a:ext cx="745920" cy="8380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8" descr=""/>
          <p:cNvPicPr/>
          <p:nvPr/>
        </p:nvPicPr>
        <p:blipFill>
          <a:blip r:embed="rId6"/>
          <a:stretch/>
        </p:blipFill>
        <p:spPr>
          <a:xfrm>
            <a:off x="304920" y="568800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9" descr=""/>
          <p:cNvPicPr/>
          <p:nvPr/>
        </p:nvPicPr>
        <p:blipFill>
          <a:blip r:embed="rId7"/>
          <a:stretch/>
        </p:blipFill>
        <p:spPr>
          <a:xfrm>
            <a:off x="3581280" y="2209680"/>
            <a:ext cx="60336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0" descr=""/>
          <p:cNvPicPr/>
          <p:nvPr/>
        </p:nvPicPr>
        <p:blipFill>
          <a:blip r:embed="rId8"/>
          <a:stretch/>
        </p:blipFill>
        <p:spPr>
          <a:xfrm>
            <a:off x="5029200" y="5653080"/>
            <a:ext cx="768240" cy="1204920"/>
          </a:xfrm>
          <a:prstGeom prst="rect">
            <a:avLst/>
          </a:prstGeom>
          <a:ln w="0">
            <a:noFill/>
          </a:ln>
        </p:spPr>
      </p:pic>
      <p:sp>
        <p:nvSpPr>
          <p:cNvPr id="469" name="Line 31"/>
          <p:cNvSpPr/>
          <p:nvPr/>
        </p:nvSpPr>
        <p:spPr>
          <a:xfrm flipH="1">
            <a:off x="4647960" y="2286000"/>
            <a:ext cx="228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4258-4E34-42CF-A7D1-1B252FC2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plex problem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se three problem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ing sale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9E0F-63A7-47D9-A122-7F9713C7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Hard problem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termining whether or not it is possible to solve these problems quickly is one of the principal unsolved problems in computer science toda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P ≠ P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erson to solve it will get $1 million (and probably a Field medal or Nobel Prize to boo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aymath.org/millennium/P_vs_NP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efinitions: P and NP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 that a problem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f a solution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f a solution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if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olynomial time (P is a subset of N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 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: a problem that is in NP and is as hard as any problem in NP (i.e. if you know how to solve an NP complete problem, you c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P complete proble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 h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: a problem that is at least as hard as any problem in NP, but may not be in NP (i.e. may not be verifiable in polynomial tim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here do problems fit in?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1" name="Content Placeholder 4" descr="800px-P_np_np-complete_np-hard.svg.png"/>
          <p:cNvPicPr/>
          <p:nvPr/>
        </p:nvPicPr>
        <p:blipFill>
          <a:blip r:embed="rId1"/>
          <a:srcRect l="-6179" t="0" r="-6179" b="0"/>
          <a:stretch/>
        </p:blipFill>
        <p:spPr>
          <a:xfrm>
            <a:off x="457200" y="137160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482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E588-766C-408A-955D-21A6A03B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4724280" y="650556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ile:P_np_np-complete_np-hard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mon Misconcep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P-complete problems are the most difficult known problems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NP-complete problems are in NP, their running time is at most exponential. However, some problems provably require mor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P-complete problems are difficult because there are so many different solutions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one hand, there are many problems that have a solution space just as large, but can be solved in polynomial time (for exampl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nimum spanning tre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Solving NP-complete problems requires exponential time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would imply P ≠ NP, which is still an unsolved ques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ll instances of an NP-complete problem are difficult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ten some instances, or even almost all instances, may be easy to solve within polynomial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54AA-E258-4BCD-A1F8-0D45D44B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5878440" y="6324480"/>
            <a:ext cx="28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NP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EBF-79A4-4C05-8BBC-C67E8254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ng Distance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map, you want to calculate the distance between Wie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age Co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sid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ow long would this take you to calcu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f we have 6 errands instead of 3, how long does it t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029200" y="1600200"/>
          <a:ext cx="365760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600200"/>
                    <a:ext cx="36576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3FBD-5D8B-41A3-A61D-5246EC01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ng Distance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want to calculate the distances betwe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ch p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ry other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long does this take for 4 pl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long does it take for 8 pl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105"/>
          <p:cNvGraphicFramePr/>
          <p:nvPr/>
        </p:nvGraphicFramePr>
        <p:xfrm>
          <a:off x="4800600" y="1676520"/>
          <a:ext cx="4038480" cy="30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10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403848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1610-D8CF-470E-8CC9-E50EA9AB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2"/>
          <p:cNvSpPr/>
          <p:nvPr/>
        </p:nvSpPr>
        <p:spPr>
          <a:xfrm>
            <a:off x="152280" y="4114800"/>
            <a:ext cx="8610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1"/>
          <p:cNvSpPr/>
          <p:nvPr/>
        </p:nvSpPr>
        <p:spPr>
          <a:xfrm>
            <a:off x="152280" y="2819520"/>
            <a:ext cx="8610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ng Distance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1676520"/>
          <a:ext cx="8596440" cy="377496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1052640"/>
                <a:gridCol w="2529000"/>
                <a:gridCol w="1128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rrands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from one to each 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airwise Distances (=N*(N-1)/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llion (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41"/>
          <p:cNvSpPr/>
          <p:nvPr/>
        </p:nvSpPr>
        <p:spPr>
          <a:xfrm>
            <a:off x="533520" y="594360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computer can calculate the cos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ill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a calculato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8E92-1012-4FBF-8232-ACE7CE772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ng Distance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1676520"/>
          <a:ext cx="8596440" cy="384804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1052640"/>
                <a:gridCol w="2529000"/>
                <a:gridCol w="11286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rrands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from one to each 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airwise Dista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=N*(N-1)/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7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llion (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,99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45"/>
          <p:cNvSpPr/>
          <p:nvPr/>
        </p:nvSpPr>
        <p:spPr>
          <a:xfrm>
            <a:off x="533520" y="594360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computer can calculate the cos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ill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a calculato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728A-54DB-4E3F-B370-B9D5F2DF2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many different possible ways are there to run all your erra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4648320" y="1447920"/>
          <a:ext cx="4038480" cy="30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47920"/>
                    <a:ext cx="403848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57FA-5625-445F-B0A3-7DA2A776A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4724280" y="2057400"/>
          <a:ext cx="403884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04920" y="1595520"/>
          <a:ext cx="4086000" cy="3740040"/>
        </p:xfrm>
        <a:graphic>
          <a:graphicData uri="http://schemas.openxmlformats.org/drawingml/2006/table">
            <a:tbl>
              <a:tblPr/>
              <a:tblGrid>
                <a:gridCol w="914400"/>
                <a:gridCol w="657000"/>
                <a:gridCol w="609840"/>
                <a:gridCol w="838080"/>
                <a:gridCol w="106668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1"/>
          <p:cNvSpPr/>
          <p:nvPr/>
        </p:nvSpPr>
        <p:spPr>
          <a:xfrm>
            <a:off x="914400" y="5715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What’s the fastest way to run all your errands, starting at home, and ending up at ho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380880" y="12034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s between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4:51:29Z</dcterms:created>
  <dc:creator>kristen</dc:creator>
  <dc:description/>
  <cp:keywords/>
  <dc:language>en-US</dc:language>
  <cp:lastModifiedBy>Arthi Ramachandran</cp:lastModifiedBy>
  <dcterms:modified xsi:type="dcterms:W3CDTF">2010-11-15T15:54:50Z</dcterms:modified>
  <cp:revision>47</cp:revision>
  <dc:subject/>
  <dc:title>Really Hard Problems</dc:title>
</cp:coreProperties>
</file>