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DEE-ECE6-4700-9073-C9773CB8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281-DCCD-4C2C-BFA7-12C81D4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ACE-1E92-4A89-AD73-DD79649E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4B3-C641-4AFF-B7B1-040D228B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E75-5AB4-434E-9A72-D83FF1B5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C9A-4A8F-4648-818D-FC6858C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10C-9ECF-4E6D-81B7-CB9A045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EA6-D76F-4016-A6D1-9DBD17C1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495-A3D3-451D-AAA7-61419F0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4A8-CECD-4426-B959-09BB438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8D5-BF8A-446B-80CF-62C713A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9FD-FAC1-4D6F-A2E5-891B5512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697-8387-40FF-92EE-C305B91D8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SI: Emerging Scholar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World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facial recognition be used in the real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from the technical challenges, what are the practical challenges (socially, ethically, etc.) that may a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yXyAqAbGj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written signatures are one of the most common ways that we use to uniquely identify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tell if a signature is authent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ture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3619800" cy="140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4038480" cy="190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32767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440" y="54100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971800" cy="166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30640" y="54864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eatures of a signature can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61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ignature verification easier than facial recog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it ha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human features can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actical consid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al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mall children can recognize someone they know by thei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recognition is very easy for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ze that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16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447920" y="1371600"/>
            <a:ext cx="6019560" cy="4952880"/>
            <a:chOff x="1447920" y="1371600"/>
            <a:chExt cx="6019560" cy="4952880"/>
          </a:xfrm>
        </p:grpSpPr>
        <p:sp>
          <p:nvSpPr>
            <p:cNvPr id="48" name=""/>
            <p:cNvSpPr/>
            <p:nvPr/>
          </p:nvSpPr>
          <p:spPr>
            <a:xfrm>
              <a:off x="1752480" y="502920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28800" y="1371600"/>
              <a:ext cx="510552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52480" y="563868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3352680"/>
              <a:ext cx="266688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886200" y="3505320"/>
            <a:ext cx="1523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57200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76720" y="3962520"/>
            <a:ext cx="3504960" cy="609480"/>
            <a:chOff x="3276720" y="3962520"/>
            <a:chExt cx="3504960" cy="609480"/>
          </a:xfrm>
        </p:grpSpPr>
        <p:sp>
          <p:nvSpPr>
            <p:cNvPr id="55" name=""/>
            <p:cNvSpPr/>
            <p:nvPr/>
          </p:nvSpPr>
          <p:spPr>
            <a:xfrm>
              <a:off x="3276720" y="3962520"/>
              <a:ext cx="14475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080" y="4038480"/>
              <a:ext cx="1371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181480" y="3505320"/>
            <a:ext cx="1524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face recognition h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2400480" cy="23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304776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that gi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23040" y="2611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431040" y="46054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59400" y="42814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63680" y="274176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381400" y="46735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54200" y="20908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14400" y="39765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324560" y="2001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81440" y="1736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962520" y="313380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65600" y="1962000"/>
            <a:ext cx="3765240" cy="4113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920" y="1914480"/>
            <a:ext cx="4343400" cy="900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930480"/>
            <a:ext cx="4343400" cy="2279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9040" y="2679840"/>
            <a:ext cx="608040" cy="1520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89200" y="2479680"/>
            <a:ext cx="685800" cy="194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person? Different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240" y="1347840"/>
            <a:ext cx="343368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25640" y="1353960"/>
            <a:ext cx="30528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tion: Am I who I say I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know these are the same per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a computer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19852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37636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tion: Who am 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eople on the right, who is the one on the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a computer know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114800" y="4419720"/>
            <a:ext cx="1085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114560" cy="150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562720" y="4495680"/>
            <a:ext cx="1314360" cy="148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14400" y="4419720"/>
            <a:ext cx="1362240" cy="135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8006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2520" y="609588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26400" y="609588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0640" y="609588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0:45:10Z</dcterms:created>
  <dc:creator>Chris Murphy</dc:creator>
  <dc:description/>
  <dc:language>en-US</dc:language>
  <cp:lastModifiedBy>Chris Murphy</cp:lastModifiedBy>
  <dcterms:modified xsi:type="dcterms:W3CDTF">2009-03-19T16:06:46Z</dcterms:modified>
  <cp:revision>39</cp:revision>
  <dc:subject/>
  <dc:title>Biometrics</dc:title>
</cp:coreProperties>
</file>