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D7C2-31D2-4897-B397-AA19DFD5B0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93F8-1B68-4B06-BFF4-4D05EC95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ABE-0D71-4032-906A-005FC545C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08C-67D2-4A49-B7A2-4C140DD2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4BC-068A-46EA-8A47-25FA5C5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5C7-1278-4DD0-880D-DA7413D5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8C6-EDDA-41D0-A811-C786BF71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976-2837-4725-BF32-8B258EC0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B7D-B3C8-4952-9D47-3D812822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733-2FC1-4F42-AB4F-17D3240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D0B-6BB3-4FF9-A164-465FF7F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8B4-C063-421C-B3CA-B280A8F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32C-C23F-4251-B6A1-D743A45B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E3D-D16D-4267-AA62-C052A4E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A66-4F84-436D-AAD9-71D4332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746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2188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79640" indent="-2192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79640" indent="-2192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79640" indent="-2192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EE9-475D-464E-BEDA-5E7CD66D4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0"/>
            <a:ext cx="9144000" cy="946440"/>
          </a:xfrm>
          <a:prstGeom prst="rect">
            <a:avLst/>
          </a:prstGeom>
          <a:solidFill>
            <a:srgbClr val="98b2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The Emerging Scholars Program (E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fessor Adam Cannon, Christian Murphy, Kristen Parton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, Joshua Gor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{cannon, cmurphy, kristen, joshua}@cs.columb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cs.columbia.edu/e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30120" y="317520"/>
          <a:ext cx="1744920" cy="3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17520"/>
                    <a:ext cx="1744920" cy="311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1" name="Picture 47" descr="NCWIT"/>
          <p:cNvPicPr/>
          <p:nvPr/>
        </p:nvPicPr>
        <p:blipFill>
          <a:blip r:embed="rId3"/>
          <a:stretch/>
        </p:blipFill>
        <p:spPr>
          <a:xfrm>
            <a:off x="7377120" y="285840"/>
            <a:ext cx="423720" cy="411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8" descr="Academic Alliance"/>
          <p:cNvPicPr/>
          <p:nvPr/>
        </p:nvPicPr>
        <p:blipFill>
          <a:blip r:embed="rId4"/>
          <a:stretch/>
        </p:blipFill>
        <p:spPr>
          <a:xfrm>
            <a:off x="7800840" y="285840"/>
            <a:ext cx="435240" cy="412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4"/>
          <p:cNvSpPr/>
          <p:nvPr/>
        </p:nvSpPr>
        <p:spPr>
          <a:xfrm>
            <a:off x="152280" y="1066680"/>
            <a:ext cx="2819520" cy="27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Go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6"/>
          <p:cNvSpPr/>
          <p:nvPr/>
        </p:nvSpPr>
        <p:spPr>
          <a:xfrm>
            <a:off x="152280" y="1417680"/>
            <a:ext cx="281952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the number of female Computer Science (CS) maj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cus on higher-level problem solving, rather than technical details or 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pose students to a variety of CS topics early in their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e a network of undergraduate women interested in computers and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48520" y="3733920"/>
          <a:ext cx="2743200" cy="26874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33336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5400"/>
                          <a:tab algn="l" pos="190440"/>
                          <a:tab algn="l" pos="285840"/>
                          <a:tab algn="l" pos="38088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52560"/>
                          <a:tab algn="l" pos="1047600"/>
                          <a:tab algn="l" pos="1143000"/>
                          <a:tab algn="l" pos="1238400"/>
                          <a:tab algn="l" pos="1333440"/>
                          <a:tab algn="l" pos="1428840"/>
                          <a:tab algn="l" pos="1523880"/>
                          <a:tab algn="l" pos="1619280"/>
                          <a:tab algn="l" pos="1714680"/>
                          <a:tab algn="l" pos="1809720"/>
                          <a:tab algn="l" pos="190512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 and communicating algorith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5400"/>
                          <a:tab algn="l" pos="190440"/>
                          <a:tab algn="l" pos="285840"/>
                          <a:tab algn="l" pos="38088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52560"/>
                          <a:tab algn="l" pos="1047600"/>
                          <a:tab algn="l" pos="1143000"/>
                          <a:tab algn="l" pos="1238400"/>
                          <a:tab algn="l" pos="1333440"/>
                          <a:tab algn="l" pos="1428840"/>
                          <a:tab algn="l" pos="1523880"/>
                          <a:tab algn="l" pos="1619280"/>
                          <a:tab algn="l" pos="1714680"/>
                          <a:tab algn="l" pos="1809720"/>
                          <a:tab algn="l" pos="190512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5400"/>
                          <a:tab algn="l" pos="190440"/>
                          <a:tab algn="l" pos="285840"/>
                          <a:tab algn="l" pos="38088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52560"/>
                          <a:tab algn="l" pos="1047600"/>
                          <a:tab algn="l" pos="1143000"/>
                          <a:tab algn="l" pos="1238400"/>
                          <a:tab algn="l" pos="1333440"/>
                          <a:tab algn="l" pos="1428840"/>
                          <a:tab algn="l" pos="1523880"/>
                          <a:tab algn="l" pos="1619280"/>
                          <a:tab algn="l" pos="1714680"/>
                          <a:tab algn="l" pos="1809720"/>
                          <a:tab algn="l" pos="190512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&amp; encry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5400"/>
                          <a:tab algn="l" pos="190440"/>
                          <a:tab algn="l" pos="285840"/>
                          <a:tab algn="l" pos="38088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52560"/>
                          <a:tab algn="l" pos="1047600"/>
                          <a:tab algn="l" pos="1143000"/>
                          <a:tab algn="l" pos="1238400"/>
                          <a:tab algn="l" pos="1333440"/>
                          <a:tab algn="l" pos="1428840"/>
                          <a:tab algn="l" pos="1523880"/>
                          <a:tab algn="l" pos="1619280"/>
                          <a:tab algn="l" pos="1714680"/>
                          <a:tab algn="l" pos="1809720"/>
                          <a:tab algn="l" pos="190512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language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5400"/>
                          <a:tab algn="l" pos="190440"/>
                          <a:tab algn="l" pos="285840"/>
                          <a:tab algn="l" pos="38088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52560"/>
                          <a:tab algn="l" pos="1047600"/>
                          <a:tab algn="l" pos="1143000"/>
                          <a:tab algn="l" pos="1238400"/>
                          <a:tab algn="l" pos="1333440"/>
                          <a:tab algn="l" pos="1428840"/>
                          <a:tab algn="l" pos="1523880"/>
                          <a:tab algn="l" pos="1619280"/>
                          <a:tab algn="l" pos="1714680"/>
                          <a:tab algn="l" pos="1809720"/>
                          <a:tab algn="l" pos="190512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etr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5400"/>
                          <a:tab algn="l" pos="190440"/>
                          <a:tab algn="l" pos="285840"/>
                          <a:tab algn="l" pos="38088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52560"/>
                          <a:tab algn="l" pos="1047600"/>
                          <a:tab algn="l" pos="1143000"/>
                          <a:tab algn="l" pos="1238400"/>
                          <a:tab algn="l" pos="1333440"/>
                          <a:tab algn="l" pos="1428840"/>
                          <a:tab algn="l" pos="1523880"/>
                          <a:tab algn="l" pos="1619280"/>
                          <a:tab algn="l" pos="1714680"/>
                          <a:tab algn="l" pos="1809720"/>
                          <a:tab algn="l" pos="190512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I and Information Visual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Graph The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19440" rIns="19440" tIns="9360" bIns="93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Ethics of technology, policy-making decis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14"/>
          <p:cNvSpPr/>
          <p:nvPr/>
        </p:nvSpPr>
        <p:spPr>
          <a:xfrm>
            <a:off x="5867280" y="1447920"/>
            <a:ext cx="31244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4752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20600" indent="-4752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6"/>
          <p:cNvSpPr/>
          <p:nvPr/>
        </p:nvSpPr>
        <p:spPr>
          <a:xfrm>
            <a:off x="6248520" y="1066680"/>
            <a:ext cx="2666880" cy="27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Student Quo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248520" y="1355760"/>
            <a:ext cx="27432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 loved it, learned from it, and enjoyed my time. Even people who are not interested in computer science would find these workshops interesting.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t’s abou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blem solvin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and looking at things in a new light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t wa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xtremely rewardin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to participate in something in which I not only found academic value but also social and recreational value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3"/>
          <p:cNvSpPr/>
          <p:nvPr/>
        </p:nvSpPr>
        <p:spPr>
          <a:xfrm>
            <a:off x="3200400" y="3352680"/>
            <a:ext cx="2895480" cy="27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4"/>
          <p:cNvSpPr/>
          <p:nvPr/>
        </p:nvSpPr>
        <p:spPr>
          <a:xfrm>
            <a:off x="3200400" y="3706920"/>
            <a:ext cx="289548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7 studen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have completed ESP in nine different se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he first five semesters, of the students who have declared majors, 45% of them have declared 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majority of students rated their peer leaders as 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ntasti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” and would 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el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” recommend ESP to other stud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e ESP participant has gone on to win Google’s Anita Borg Memorial Scholar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ESP assistants have gone on to receive CRA-W summer research positions; one ESP leader now works full time at Microso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85"/>
          <p:cNvSpPr/>
          <p:nvPr/>
        </p:nvSpPr>
        <p:spPr>
          <a:xfrm>
            <a:off x="6248520" y="3352680"/>
            <a:ext cx="2743200" cy="27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ESP Top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8"/>
          <p:cNvSpPr/>
          <p:nvPr/>
        </p:nvSpPr>
        <p:spPr>
          <a:xfrm>
            <a:off x="3200400" y="144792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Emerging Scholars Program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ESP) began in Spring 2008 with six participants, one Peer Leader, and one Assist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d fund grant received fro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CW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Summer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urrently two coed sections of 8 participants each (gender balanc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eekly, 1-2 hour group meetings in addition to regular cla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86"/>
          <p:cNvSpPr/>
          <p:nvPr/>
        </p:nvSpPr>
        <p:spPr>
          <a:xfrm>
            <a:off x="3200400" y="1066680"/>
            <a:ext cx="2895480" cy="27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ESP at Columb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3"/>
          <p:cNvSpPr/>
          <p:nvPr/>
        </p:nvSpPr>
        <p:spPr>
          <a:xfrm>
            <a:off x="152280" y="3352680"/>
            <a:ext cx="2819520" cy="27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Student Leadersh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4"/>
          <p:cNvSpPr/>
          <p:nvPr/>
        </p:nvSpPr>
        <p:spPr>
          <a:xfrm>
            <a:off x="152280" y="3689280"/>
            <a:ext cx="28195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er-Led Team Learning (PLTL) involves students working cooperatively in small groups, led by trained undergraduate peer lead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pecial emphasis is placed on solving problems as a team, and making the activities f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SP sections are led by a junior or senior CS major who presents topics, problems, and directs the discuss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 sophomore or junior CS major assists the leader and provides feedback about the mate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6840" indent="-96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79"/>
          <p:cNvSpPr/>
          <p:nvPr/>
        </p:nvSpPr>
        <p:spPr>
          <a:xfrm>
            <a:off x="304920" y="6629400"/>
            <a:ext cx="8611920" cy="141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ESP wishes to thank NCWIT and Microsoft Research for granting us seed funding; and the CS Department and Women in Computer Science for their continued suppo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1:20:49Z</dcterms:created>
  <dc:creator>kristen</dc:creator>
  <dc:description/>
  <dc:language>en-US</dc:language>
  <cp:lastModifiedBy>Josh Gordon</cp:lastModifiedBy>
  <cp:lastPrinted>2010-05-18T01:46:28Z</cp:lastPrinted>
  <dcterms:modified xsi:type="dcterms:W3CDTF">2010-05-18T01:50:25Z</dcterms:modified>
  <cp:revision>67</cp:revision>
  <dc:subject/>
  <dc:title>Slide 1</dc:title>
</cp:coreProperties>
</file>