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F5C54-4A36-4B34-A641-94E8928B6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8D0FE-6C97-4155-B96A-50DE6A4C7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00290-5A48-4714-B2C1-FD9605ED7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06C64-B7EA-45E9-8EAE-F3018D04E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AAEB3-B4F9-413C-A4A2-D39928F93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395B0-4F92-4AB2-A162-CC10FF101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9BAE8-D287-4951-8F48-4033B0441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DBDFA-2D70-418A-8E02-38F53AC78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68522-4184-4277-A107-2A1C5D417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71069-61AA-439C-B70C-41A403852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2806D-DE29-4942-BE89-102D4C4E4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C5067-648B-46DC-A6EF-719D2E155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883BF-E428-414C-A9C8-E8D2B9D65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41423-43AF-416D-B8A9-BF5606BF6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82AC8-4266-41B8-90AA-7A145B171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ADD49-4FCB-4720-B1EF-5296DC447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4B1C3-05C5-4A0C-AB23-5BE1A9F23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974FAA-DF3B-4358-8499-5611C3CDEC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C08A1-07B4-4101-B45A-3B5743859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F8E1B-DB14-4503-AAB8-45B5E54BE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4607C9-471A-4245-90DE-4FBB77604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3B734-9869-4F5B-988A-08A858E1F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5128B-12EF-4755-B25F-1D2B0E4E9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44FAF-25D2-4B51-826D-4EDAEAC57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1AD1A-9027-4F9F-B8D6-A4D05B548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188B4-A127-42CD-8064-49FDBFF93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945F6-6406-4777-AE3C-0B0CF8F27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1FFE6-0EE3-4FB2-996A-D7D2551FE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2001D4-FBB4-47E4-A2AA-1C9EF4C7E5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F5AA95-57D2-409E-9559-C5BBF3B985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888CA6-452B-4561-B939-CF44DC353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59452-E5F0-4859-A072-B4FA7220E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37859-A048-47E6-82A1-A149E6059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2451E-6488-42FD-A174-2EC1D430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BA64AE-158C-4A6A-B791-EABCACA6F9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ACCDF3-570D-4E13-9B06-93BBBDE96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CC5C37-3ED2-415C-86A8-E49FCD3334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3A5DD-0855-4470-8E10-0F8D9EAAE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F2631-D0E8-4B33-87BA-9C9125D39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F9DF0-C9EA-4705-9303-EB54C1954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A25D5F-9472-4154-AE69-7BAB201D82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C8235C-73CB-44C7-B2EC-B7C95383DC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504A27-3BE4-4DDC-BC5E-64DC59A21A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E84F83-917A-4802-96C3-620BFCF1A1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E425-80E4-4952-B9C8-A21BD14E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499A4-A44C-4E36-93E5-0B0D15328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D4B38-DD96-411A-B3FB-02DC03562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D5867B-0340-4CBB-9CF3-F4DEED8D01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DA6825-4655-4359-BBDE-BE3B3E41C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F4C3B-7964-4B58-B7A0-330847C3A3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B535F-AFEE-40BE-B078-4A2523E9A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CDCC2-12FB-415A-AA22-4334014E8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B1D34-F5D6-422E-8770-D17FE39F0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01092C-2EA7-43BC-91C8-9E3CDEAF4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D7225C-61D5-43A8-8ED0-7A3AD75DF9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C950E-4D30-4F01-B6AF-BBEC265A8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4B5C40-5247-4F87-BFB6-EE4D4BC315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AADB91-9ED8-47BD-9745-79AD269F3A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C5AC5D-74E4-44F5-96C7-FABE0F7B1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F0A993-27CC-4308-BC05-ED2CA2C79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E9CCD1-79F4-4CCB-B61B-B153D8E61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B73DB2-473C-456D-97A7-10DE352B3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8C9952-46A9-432A-8402-1E561CE902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B8A43-3226-41E6-A6D8-402A15F19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EDBC3-A436-4B8C-8BBB-EB76AFE3CF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C0205-2A72-40DA-9608-6FD91F4D5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DE544-D83B-4B82-A9CC-5DEC80284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13C213-2B2F-4C57-9316-FD0B3B94D4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F81305-F2E4-4703-BE60-32ADC56E3C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2711F5-B56A-45F1-B30A-4170D336C9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64DED1-5E1F-45AA-9043-32693E080D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40957C-46AF-47BF-95C0-E1437B20B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30421C-BCBA-48B5-BB57-19E189F84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9C4A9C-F8B7-41AC-8D6F-EE334BB0B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E0C59C-BAC3-4DF0-9E3F-E786DE7100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C67BC-38AF-4A88-8843-3177FE0A75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63C61-D5BF-46E9-9148-BE2DEBFB0D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CA5BC-93F3-440F-9441-A3585E92E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0FBB91-0862-4159-87BF-211100D30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98FBFA-5662-4DF2-B726-917A24C83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5FC970-88EB-4BE3-96CA-9B6065CC66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C087A7-9C52-4C95-B52F-5C11D029A8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D03CA8-FB01-4551-8801-621205AD12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216F28-B195-47FD-B1FB-09AC7D20D5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9B6D78-7AE6-4B36-B726-349564EAC9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F17C87-7075-4D22-978A-2E0282420E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19F3F3-2FA3-40E3-934F-6CAE55060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94E36E-FC2B-4424-B50F-0893B31CA5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2ADF3-732C-4AE8-94A7-E17C9F81A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77F293-160F-4382-8C4C-FEAF7A6B54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B6C6C-9635-4552-ADFA-74ACA3224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BC39B-66F3-422B-8606-624380BEF3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58F9D-16E9-48D4-8870-0004BFD194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F6D7B9-DDE9-44E5-AF0C-18089A121E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1E0E4A-ABFD-45A8-B11D-B5DE622EAF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E81583-B2D2-4203-A013-099B6D8D24B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AA6B-AF4F-47D4-9CD8-F3CD814F67A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7916-409C-490A-A418-B108A16FD38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9120-F334-43F1-80AE-09A299236BC6}"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CA53-A264-4A87-9B43-769E1458252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432F-449F-422B-8BF6-9FCCB9F553B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ACFA-AC4B-439C-90ED-9AD4B8C677F4}"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DB88-E680-43E1-8C1D-A6ABE5678D80}"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D94E-38AA-427D-87BC-7165046356D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MBTA_vs._Anderson" TargetMode="External"/><Relationship Id="rId3" Type="http://schemas.openxmlformats.org/officeDocument/2006/relationships/hyperlink" Target="http://en.wikipedia.org/wiki/MBTA_vs._Anderson"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ytimes.com/1998/09/23/us/universities-finding-a-sharp-rise-in-computer-aided-cheating.html" TargetMode="External"/><Relationship Id="rId2" Type="http://schemas.openxmlformats.org/officeDocument/2006/relationships/hyperlink" Target="http://www.nytimes.com/1991/05/22/technology/scandal-over-cheating-at-mit-stirs-debate-on-limits-of-teamwork.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theory.stanford.edu/~aiken/moss/" TargetMode="External"/><Relationship Id="rId2" Type="http://schemas.openxmlformats.org/officeDocument/2006/relationships/hyperlink" Target="http://theory.stanford.edu/~aiken/moss/" TargetMode="External"/><Relationship Id="rId3" Type="http://schemas.openxmlformats.org/officeDocument/2006/relationships/hyperlink" Target="http://theory.stanford.edu/~aiken/moss/"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en.wikipedia.org/wiki/Closed-circuit_television" TargetMode="External"/><Relationship Id="rId2" Type="http://schemas.openxmlformats.org/officeDocument/2006/relationships/hyperlink" Target="http://www.1to1media.com/View.aspx?DocId=31533"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Digital Dilemmas</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64653"/>
                </a:solidFill>
                <a:latin typeface="Bookman Old Style"/>
              </a:rPr>
              <a:t>Ethics and policy making on issues in technology</a:t>
            </a:r>
            <a:endParaRPr b="0" lang="en-US" sz="2000" spc="-1" strike="noStrike">
              <a:solidFill>
                <a:srgbClr val="000000"/>
              </a:solidFill>
              <a:latin typeface="Gill Sans MT"/>
            </a:endParaRPr>
          </a:p>
        </p:txBody>
      </p:sp>
      <p:pic>
        <p:nvPicPr>
          <p:cNvPr id="354" name="Picture 3" descr="logo-med"/>
          <p:cNvPicPr/>
          <p:nvPr/>
        </p:nvPicPr>
        <p:blipFill>
          <a:blip r:embed="rId1"/>
          <a:stretch/>
        </p:blipFill>
        <p:spPr>
          <a:xfrm>
            <a:off x="1371600" y="3962520"/>
            <a:ext cx="628560" cy="48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CTV in NYC</a:t>
            </a:r>
            <a:endParaRPr b="0" lang="en-US" sz="3200" spc="-1" strike="noStrike">
              <a:solidFill>
                <a:srgbClr val="464653"/>
              </a:solidFill>
              <a:latin typeface="Bookman Old Style"/>
            </a:endParaRPr>
          </a:p>
        </p:txBody>
      </p:sp>
      <p:sp>
        <p:nvSpPr>
          <p:cNvPr id="382" name=""/>
          <p:cNvSpPr txBox="1"/>
          <p:nvPr/>
        </p:nvSpPr>
        <p:spPr>
          <a:xfrm>
            <a:off x="456840" y="1219320"/>
            <a:ext cx="838188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2005 plan for the MTA was “expected to include more than 1,000 cameras and 3,000 electronic sensors, according to the MT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London-style" surveillance initiative is scheduled to add thousands of cameras across New York City by 201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pic>
        <p:nvPicPr>
          <p:cNvPr id="384" name="Picture 2" descr="C:\Documents and Settings\kristen.WIN-CS\Desktop\cctv-on-nyc-bus.jpg"/>
          <p:cNvPicPr/>
          <p:nvPr/>
        </p:nvPicPr>
        <p:blipFill>
          <a:blip r:embed="rId1"/>
          <a:stretch/>
        </p:blipFill>
        <p:spPr>
          <a:xfrm>
            <a:off x="0" y="3657600"/>
            <a:ext cx="4267080" cy="3200400"/>
          </a:xfrm>
          <a:prstGeom prst="rect">
            <a:avLst/>
          </a:prstGeom>
          <a:ln w="0">
            <a:noFill/>
          </a:ln>
        </p:spPr>
      </p:pic>
      <p:sp>
        <p:nvSpPr>
          <p:cNvPr id="385" name="TextBox 5"/>
          <p:cNvSpPr/>
          <p:nvPr/>
        </p:nvSpPr>
        <p:spPr>
          <a:xfrm>
            <a:off x="1523880" y="64771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NYC MTA bus</a:t>
            </a:r>
            <a:endParaRPr b="0" lang="en-US" sz="1800" spc="-1" strike="noStrike">
              <a:solidFill>
                <a:srgbClr val="000000"/>
              </a:solidFill>
              <a:latin typeface="Arial"/>
            </a:endParaRPr>
          </a:p>
        </p:txBody>
      </p:sp>
      <p:pic>
        <p:nvPicPr>
          <p:cNvPr id="386" name="Picture 3" descr="C:\Documents and Settings\kristen.WIN-CS\Desktop\274262759_0d6d78c8ff.jpg"/>
          <p:cNvPicPr/>
          <p:nvPr/>
        </p:nvPicPr>
        <p:blipFill>
          <a:blip r:embed="rId2"/>
          <a:stretch/>
        </p:blipFill>
        <p:spPr>
          <a:xfrm>
            <a:off x="6095880" y="4343400"/>
            <a:ext cx="3195720" cy="2397240"/>
          </a:xfrm>
          <a:prstGeom prst="rect">
            <a:avLst/>
          </a:prstGeom>
          <a:ln w="0">
            <a:noFill/>
          </a:ln>
        </p:spPr>
      </p:pic>
      <p:pic>
        <p:nvPicPr>
          <p:cNvPr id="387" name="Picture 4" descr="C:\Documents and Settings\kristen.WIN-CS\Desktop\subway-eyesweb.jpg"/>
          <p:cNvPicPr/>
          <p:nvPr/>
        </p:nvPicPr>
        <p:blipFill>
          <a:blip r:embed="rId3"/>
          <a:stretch/>
        </p:blipFill>
        <p:spPr>
          <a:xfrm>
            <a:off x="4267080" y="3505320"/>
            <a:ext cx="2291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ivacy and Surveillance</a:t>
            </a:r>
            <a:endParaRPr b="0" lang="en-US" sz="3200" spc="-1" strike="noStrike">
              <a:solidFill>
                <a:srgbClr val="464653"/>
              </a:solidFill>
              <a:latin typeface="Bookman Old Style"/>
            </a:endParaRPr>
          </a:p>
        </p:txBody>
      </p:sp>
      <p:sp>
        <p:nvSpPr>
          <p:cNvPr id="389" name=""/>
          <p:cNvSpPr txBox="1"/>
          <p:nvPr/>
        </p:nvSpPr>
        <p:spPr>
          <a:xfrm>
            <a:off x="457200" y="1219320"/>
            <a:ext cx="8610480" cy="4937040"/>
          </a:xfrm>
          <a:prstGeom prst="rect">
            <a:avLst/>
          </a:prstGeom>
          <a:noFill/>
          <a:ln w="0">
            <a:noFill/>
          </a:ln>
        </p:spPr>
        <p:txBody>
          <a:bodyPr anchor="t">
            <a:normAutofit fontScale="88000"/>
          </a:bodyPr>
          <a:p>
            <a:pPr marL="240120" indent="-240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 major metropolitan city installs surveillance cameras at every intersection of the downtown area, and uses automatic face recognition software to quickly identify the perpetrators of such crimes as burglary and assault. </a:t>
            </a:r>
            <a:endParaRPr b="0" lang="en-US" sz="3600" spc="-1" strike="noStrike">
              <a:solidFill>
                <a:srgbClr val="000000"/>
              </a:solidFill>
              <a:latin typeface="Gill Sans MT"/>
            </a:endParaRPr>
          </a:p>
          <a:p>
            <a:pPr marL="240120" indent="-240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lthough crime drops by more than 20% over a two-year period, citizens complain that the cameras invade their privacy because they are constantly being watched. </a:t>
            </a:r>
            <a:endParaRPr b="0" lang="en-US" sz="3600" spc="-1" strike="noStrike">
              <a:solidFill>
                <a:srgbClr val="000000"/>
              </a:solidFill>
              <a:latin typeface="Gill Sans MT"/>
            </a:endParaRPr>
          </a:p>
        </p:txBody>
      </p:sp>
      <p:sp>
        <p:nvSpPr>
          <p:cNvPr id="390"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 Discussion</a:t>
            </a:r>
            <a:endParaRPr b="0" lang="en-US" sz="3200" spc="-1" strike="noStrike">
              <a:solidFill>
                <a:srgbClr val="464653"/>
              </a:solidFill>
              <a:latin typeface="Bookman Old Style"/>
            </a:endParaRPr>
          </a:p>
        </p:txBody>
      </p:sp>
      <p:sp>
        <p:nvSpPr>
          <p:cNvPr id="39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oes the drop in crime rate outweigh the fact that people are being monitored? </a:t>
            </a:r>
            <a:endParaRPr b="0" lang="en-US" sz="36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efine and justify a policy that describes when such monitoring and surveillance devices should be used.</a:t>
            </a:r>
            <a:endParaRPr b="0" lang="en-US" sz="3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93"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3:</a:t>
            </a:r>
            <a:br>
              <a:rPr sz="3200"/>
            </a:br>
            <a:r>
              <a:rPr b="0" lang="en-US" sz="3200" spc="-1" strike="noStrike">
                <a:solidFill>
                  <a:srgbClr val="464653"/>
                </a:solidFill>
                <a:latin typeface="Bookman Old Style"/>
              </a:rPr>
              <a:t>Security &amp; Hacking</a:t>
            </a:r>
            <a:endParaRPr b="0" lang="en-US" sz="3200" spc="-1" strike="noStrike">
              <a:solidFill>
                <a:srgbClr val="464653"/>
              </a:solidFill>
              <a:latin typeface="Bookman Old Style"/>
            </a:endParaRPr>
          </a:p>
        </p:txBody>
      </p:sp>
      <p:sp>
        <p:nvSpPr>
          <p:cNvPr id="3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2" descr="C:\Documents and Settings\kristen.WIN-CS\Desktop\charlie_card_lg.jpg"/>
          <p:cNvPicPr/>
          <p:nvPr/>
        </p:nvPicPr>
        <p:blipFill>
          <a:blip r:embed="rId1"/>
          <a:stretch/>
        </p:blipFill>
        <p:spPr>
          <a:xfrm>
            <a:off x="7315200" y="0"/>
            <a:ext cx="1828800" cy="1076400"/>
          </a:xfrm>
          <a:prstGeom prst="rect">
            <a:avLst/>
          </a:prstGeom>
          <a:ln w="0">
            <a:noFill/>
          </a:ln>
        </p:spPr>
      </p:pic>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natomy of a Subway Hack</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May 2008, MIT students presented a final paper in class demonstrating weaknesses in the CharlieCard automated fare collection system (like our MetroCard).</a:t>
            </a:r>
            <a:endParaRPr b="0" lang="en-US" sz="2400" spc="-1" strike="noStrike">
              <a:solidFill>
                <a:srgbClr val="000000"/>
              </a:solidFill>
              <a:latin typeface="Gill Sans MT"/>
            </a:endParaRPr>
          </a:p>
          <a:p>
            <a:pPr lvl="1" marL="536400" indent="-267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They showed that the data on the card can be easily read and overwritten  (ie, how to add/remove money from the card)</a:t>
            </a:r>
            <a:endParaRPr b="0" lang="en-US" sz="2100" spc="-1" strike="noStrike">
              <a:solidFill>
                <a:srgbClr val="464653"/>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y planned to present a paper on the vulnerability at a large security conference, DefCon.</a:t>
            </a:r>
            <a:endParaRPr b="0" lang="en-US" sz="24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MBTA filed suit seeking a temporary restraining order to prevent the students from presenting or otherwise discussing their findings until its vendors had sufficient time to correct defects as well as seeking monetary damages. </a:t>
            </a:r>
            <a:endParaRPr b="0" lang="en-US" sz="24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9" name="Footer Placeholder 3"/>
          <p:cNvSpPr/>
          <p:nvPr/>
        </p:nvSpPr>
        <p:spPr>
          <a:xfrm>
            <a:off x="609480" y="6356520"/>
            <a:ext cx="579456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b292ca"/>
                </a:solidFill>
                <a:uFillTx/>
                <a:latin typeface="Gill Sans MT"/>
                <a:hlinkClick r:id="rId2"/>
              </a:rPr>
              <a:t>http://</a:t>
            </a:r>
            <a:r>
              <a:rPr b="0" lang="en-US" sz="1100" spc="-1" strike="noStrike" u="sng">
                <a:solidFill>
                  <a:srgbClr val="b292ca"/>
                </a:solidFill>
                <a:uFillTx/>
                <a:latin typeface="Gill Sans MT"/>
                <a:hlinkClick r:id="rId3"/>
              </a:rPr>
              <a:t>en.wikipedia.org/wiki/MBTA_vs._Anderson</a:t>
            </a:r>
            <a:r>
              <a:rPr b="0" lang="en-US" sz="1100" spc="-1" strike="noStrike">
                <a:solidFill>
                  <a:srgbClr val="464653"/>
                </a:solidFill>
                <a:latin typeface="Gill Sans MT"/>
              </a:rPr>
              <a:t> </a:t>
            </a:r>
            <a:endParaRPr b="0" lang="en-US" sz="1100" spc="-1" strike="noStrike">
              <a:solidFill>
                <a:srgbClr val="000000"/>
              </a:solidFill>
              <a:latin typeface="Arial"/>
            </a:endParaRPr>
          </a:p>
        </p:txBody>
      </p:sp>
      <p:sp>
        <p:nvSpPr>
          <p:cNvPr id="400" name="TextBox 6"/>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curity Research</a:t>
            </a:r>
            <a:endParaRPr b="0" lang="en-US" sz="32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author of one encryption program, Pretty Good Privacy(PGP), published his algorithm.  The US government sued him for “munitions expor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nder some laws, a researcher could find himself prosecuted for simply looking for website vulnerability, much less disclosing it publicly"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3"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404" name="TextBox 4"/>
          <p:cNvSpPr/>
          <p:nvPr/>
        </p:nvSpPr>
        <p:spPr>
          <a:xfrm>
            <a:off x="609480" y="6324480"/>
            <a:ext cx="8915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en.wikipedia.org/wiki/Pretty_Good_Privacy#Criminal_investig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abcnews.go.com/Technology/PCWorld/story?id=326772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curity Flaws: Responsible Disclosure</a:t>
            </a: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fontScale="90000"/>
          </a:bodyPr>
          <a:p>
            <a:pPr marL="245520" indent="-2455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college student finds a way to decrypt text that is encrypted using an encryption scheme known to be used by the US government. This encryption may be used for a variety of sensitive data, including financial information, private health information, and/or national security data. She describes the decryption technique in a research paper, with the goal of helping others design stronger encryption algorithms that cannot be broken as easily. </a:t>
            </a:r>
            <a:endParaRPr b="0" lang="en-US" sz="2800" spc="-1" strike="noStrike">
              <a:solidFill>
                <a:srgbClr val="000000"/>
              </a:solidFill>
              <a:latin typeface="Gill Sans MT"/>
            </a:endParaRPr>
          </a:p>
          <a:p>
            <a:pPr marL="245520" indent="-2455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US government, however, begins a criminal investigation of the student, arguing that she is making it possible for criminals and terrorists to decrypting sensitive material.</a:t>
            </a: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407"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 Discussion</a:t>
            </a: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s the student liable for any damage that is caused by the criminals or terrorists who use the decryption technique? </a:t>
            </a:r>
            <a:endParaRPr b="0" lang="en-US" sz="36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efine and justify a policy that makes it clear who is liable in such situations.</a:t>
            </a:r>
            <a:endParaRPr b="0" lang="en-US" sz="3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10"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4:</a:t>
            </a:r>
            <a:br>
              <a:rPr sz="3200"/>
            </a:br>
            <a:r>
              <a:rPr b="0" lang="en-US" sz="3200" spc="-1" strike="noStrike">
                <a:solidFill>
                  <a:srgbClr val="464653"/>
                </a:solidFill>
                <a:latin typeface="Bookman Old Style"/>
              </a:rPr>
              <a:t>Distribution of Technology</a:t>
            </a:r>
            <a:endParaRPr b="0" lang="en-US" sz="3200" spc="-1" strike="noStrike">
              <a:solidFill>
                <a:srgbClr val="464653"/>
              </a:solidFill>
              <a:latin typeface="Bookman Old Style"/>
            </a:endParaRPr>
          </a:p>
        </p:txBody>
      </p:sp>
      <p:sp>
        <p:nvSpPr>
          <p:cNvPr id="4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ne Laptop Per Child</a:t>
            </a:r>
            <a:endParaRPr b="0" lang="en-US" sz="3200" spc="-1" strike="noStrike">
              <a:solidFill>
                <a:srgbClr val="464653"/>
              </a:solidFill>
              <a:latin typeface="Bookman Old Style"/>
            </a:endParaRPr>
          </a:p>
        </p:txBody>
      </p:sp>
      <p:sp>
        <p:nvSpPr>
          <p:cNvPr id="414" name=""/>
          <p:cNvSpPr txBox="1"/>
          <p:nvPr/>
        </p:nvSpPr>
        <p:spPr>
          <a:xfrm>
            <a:off x="457200" y="1218960"/>
            <a:ext cx="8686800" cy="5638680"/>
          </a:xfrm>
          <a:prstGeom prst="rect">
            <a:avLst/>
          </a:prstGeom>
          <a:noFill/>
          <a:ln w="0">
            <a:noFill/>
          </a:ln>
        </p:spPr>
        <p:txBody>
          <a:bodyPr anchor="t">
            <a:normAutofit fontScale="93000"/>
          </a:bodyPr>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The One Laptop Per Child Association, Inc. (OLPC) is a U.S. non-profit organization set up to oversee the creation of an affordable educational device for use in the developing world. The laptops currently cost $100 and are sold to governments.</a:t>
            </a:r>
            <a:endParaRPr b="0" lang="en-US" sz="36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ccording to OLPC, “Almost everywhere the XO goes, school attendance increases dramatically as the children begin to open their minds and explore their own potential. “</a:t>
            </a:r>
            <a:endParaRPr b="0" lang="en-US" sz="36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15"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1:</a:t>
            </a:r>
            <a:br>
              <a:rPr sz="3200"/>
            </a:br>
            <a:r>
              <a:rPr b="0" lang="en-US" sz="3200" spc="-1" strike="noStrike">
                <a:solidFill>
                  <a:srgbClr val="464653"/>
                </a:solidFill>
                <a:latin typeface="Bookman Old Style"/>
              </a:rPr>
              <a:t>Plagiarism</a:t>
            </a:r>
            <a:endParaRPr b="0" lang="en-US" sz="3200" spc="-1" strike="noStrike">
              <a:solidFill>
                <a:srgbClr val="464653"/>
              </a:solidFill>
              <a:latin typeface="Bookman Old Style"/>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riticism of OLPC</a:t>
            </a:r>
            <a:endParaRPr b="0" lang="en-US" sz="3200" spc="-1" strike="noStrike">
              <a:solidFill>
                <a:srgbClr val="464653"/>
              </a:solidFill>
              <a:latin typeface="Bookman Old Style"/>
            </a:endParaRPr>
          </a:p>
        </p:txBody>
      </p:sp>
      <p:sp>
        <p:nvSpPr>
          <p:cNvPr id="41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fontScale="89000"/>
          </a:bodyPr>
          <a:p>
            <a:pPr marL="242640" indent="-2426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frican officials] voiced suspicions towards the motives of the OLPC project and claimed that the project was using an overly U.S. mindset that presented solutions not applicable to specifically African problems. […and that] the project demonstrated misplaced priorities, stating that clean water and schools were more important.</a:t>
            </a:r>
            <a:endParaRPr b="0" lang="en-US" sz="3000" spc="-1" strike="noStrike">
              <a:solidFill>
                <a:srgbClr val="000000"/>
              </a:solidFill>
              <a:latin typeface="Gill Sans MT"/>
            </a:endParaRPr>
          </a:p>
          <a:p>
            <a:pPr marL="24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42640" indent="-2426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lso according to OLPC, “An additional challenge … is that while the Uruguayan government is making a great effort in providing funding for the hardware, there is no funding for designing and developing software and content for use with the laptops”</a:t>
            </a:r>
            <a:endParaRPr b="0" lang="en-US" sz="3000" spc="-1" strike="noStrike">
              <a:solidFill>
                <a:srgbClr val="000000"/>
              </a:solidFill>
              <a:latin typeface="Gill Sans MT"/>
            </a:endParaRPr>
          </a:p>
        </p:txBody>
      </p:sp>
      <p:sp>
        <p:nvSpPr>
          <p:cNvPr id="418"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ocial Entrepreneurship</a:t>
            </a:r>
            <a:endParaRPr b="0" lang="en-US" sz="3200" spc="-1" strike="noStrike">
              <a:solidFill>
                <a:srgbClr val="464653"/>
              </a:solidFill>
              <a:latin typeface="Bookman Old Style"/>
            </a:endParaRPr>
          </a:p>
        </p:txBody>
      </p:sp>
      <p:sp>
        <p:nvSpPr>
          <p:cNvPr id="420" name=""/>
          <p:cNvSpPr txBox="1"/>
          <p:nvPr/>
        </p:nvSpPr>
        <p:spPr>
          <a:xfrm>
            <a:off x="457200" y="1218960"/>
            <a:ext cx="8229600" cy="5257800"/>
          </a:xfrm>
          <a:prstGeom prst="rect">
            <a:avLst/>
          </a:prstGeom>
          <a:noFill/>
          <a:ln w="0">
            <a:noFill/>
          </a:ln>
        </p:spPr>
        <p:txBody>
          <a:bodyPr anchor="t">
            <a:normAutofit fontScale="94000"/>
          </a:bodyPr>
          <a:p>
            <a:pPr marL="256320" indent="-2563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group of university students has collected laptops and networking hardware from friends and other donors, and has identified a small village in rural Guatemala that does not have computing facilities or Internet access. </a:t>
            </a:r>
            <a:endParaRPr b="0" lang="en-US" sz="3200" spc="-1" strike="noStrike">
              <a:solidFill>
                <a:srgbClr val="000000"/>
              </a:solidFill>
              <a:latin typeface="Gill Sans MT"/>
            </a:endParaRPr>
          </a:p>
          <a:p>
            <a:pPr marL="256320" indent="-2563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6320" indent="-2563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ithout first asking for permission from local leaders, the group of students intends to first set up wireless Internet access throughout the village, and then give the laptops to families free of charge. </a:t>
            </a:r>
            <a:endParaRPr b="0" lang="en-US" sz="3200" spc="-1" strike="noStrike">
              <a:solidFill>
                <a:srgbClr val="000000"/>
              </a:solidFill>
              <a:latin typeface="Gill Sans MT"/>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 Discussion</a:t>
            </a:r>
            <a:endParaRPr b="0" lang="en-US" sz="3200" spc="-1" strike="noStrike">
              <a:solidFill>
                <a:srgbClr val="464653"/>
              </a:solidFill>
              <a:latin typeface="Bookman Old Style"/>
            </a:endParaRPr>
          </a:p>
        </p:txBody>
      </p:sp>
      <p:sp>
        <p:nvSpPr>
          <p:cNvPr id="4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MT"/>
              </a:rPr>
              <a:t>What are the social and ethical implications of such a plan? </a:t>
            </a:r>
            <a:endParaRPr b="0" lang="en-US" sz="33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MT"/>
              </a:rPr>
              <a:t>Define and justify a policy that describes when the introduction of technology into such areas is acceptable.</a:t>
            </a:r>
            <a:endParaRPr b="0" lang="en-US" sz="33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p:txBody>
      </p:sp>
      <p:sp>
        <p:nvSpPr>
          <p:cNvPr id="424"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5:</a:t>
            </a:r>
            <a:br>
              <a:rPr sz="3200"/>
            </a:br>
            <a:r>
              <a:rPr b="0" lang="en-US" sz="3200" spc="-1" strike="noStrike">
                <a:solidFill>
                  <a:srgbClr val="464653"/>
                </a:solidFill>
                <a:latin typeface="Bookman Old Style"/>
              </a:rPr>
              <a:t>Censorship</a:t>
            </a:r>
            <a:endParaRPr b="0" lang="en-US" sz="3200" spc="-1" strike="noStrike">
              <a:solidFill>
                <a:srgbClr val="464653"/>
              </a:solidFill>
              <a:latin typeface="Bookman Old Style"/>
            </a:endParaRPr>
          </a:p>
        </p:txBody>
      </p:sp>
      <p:sp>
        <p:nvSpPr>
          <p:cNvPr id="4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reat Firewall of China</a:t>
            </a:r>
            <a:endParaRPr b="0" lang="en-US" sz="32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YouTube is the latest of thousands of sites to be shut down by what has become known as the Great Firewall of China.</a:t>
            </a: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crackdown that began in January has closed hundreds of Chinese sites, including a popular blog-hosting site and several sites popular with Tibetans.  Analysts view it as another step in the Government's strategy to stifle dissent.</a:t>
            </a: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regime not only blocks website content but also monitors the internet access of individuals. Amnesty International notes that China “has the largest recorded number of imprisoned journalists and cyber-dissidents in the world.” The offences of which they are accused include communicating with groups abroad, opposing the persecution of the Falun Gong, signing online petitions, and calling for reform and an end to corruption.</a:t>
            </a:r>
            <a:r>
              <a:rPr b="0" lang="en-US" sz="2400" spc="-1" strike="noStrike" baseline="30000">
                <a:solidFill>
                  <a:srgbClr val="000000"/>
                </a:solidFill>
                <a:latin typeface="Gill Sans MT"/>
              </a:rPr>
              <a:t>[4]</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9"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430" name="Footer Placeholder 4"/>
          <p:cNvSpPr/>
          <p:nvPr/>
        </p:nvSpPr>
        <p:spPr>
          <a:xfrm>
            <a:off x="685800" y="6356520"/>
            <a:ext cx="80010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53"/>
                </a:solidFill>
                <a:latin typeface="Gill Sans MT"/>
              </a:rPr>
              <a:t>http://www.timesonline.co.uk/tol/news/world/asia/article5972245.ec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53"/>
                </a:solidFill>
                <a:latin typeface="Gill Sans MT"/>
              </a:rPr>
              <a:t>http://en.wikipedia.org/wiki/Internet_censorship_in_the_People's_Republic_of_China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ensoring Search</a:t>
            </a:r>
            <a:endParaRPr b="0" lang="en-US" sz="3200" spc="-1" strike="noStrike">
              <a:solidFill>
                <a:srgbClr val="464653"/>
              </a:solidFill>
              <a:latin typeface="Bookman Old Style"/>
            </a:endParaRPr>
          </a:p>
        </p:txBody>
      </p:sp>
      <p:sp>
        <p:nvSpPr>
          <p:cNvPr id="432"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oogle search censors search results differently depending on the country.</a:t>
            </a:r>
            <a:endParaRPr b="0" lang="en-US" sz="24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der French and German law, hate speech and Holocaust denial are illegal.  </a:t>
            </a:r>
            <a:endParaRPr b="0" lang="en-US" sz="24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oogle.cn search results are filtered so as not to bring up any results concerning the Tiananmen Square protests of 1989, sites supporting the independence movements of Tibet and Taiwan or the Falun Gong movement, and other information perceived to be harmful to the People's Republic of China.</a:t>
            </a:r>
            <a:endParaRPr b="0" lang="en-US" sz="24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 US, Google also sometimes removes sites if they are infringing on copyright (someone can send a DMCA – Digital Millennium Copyright Act – complaint to Google). Also in the US, Google censors sites containing child pornography. </a:t>
            </a:r>
            <a:endParaRPr b="0" lang="en-US" sz="24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3"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434" name="Footer Placeholder 4"/>
          <p:cNvSpPr/>
          <p:nvPr/>
        </p:nvSpPr>
        <p:spPr>
          <a:xfrm>
            <a:off x="609480" y="6356520"/>
            <a:ext cx="81536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53"/>
                </a:solidFill>
                <a:latin typeface="Gill Sans MT"/>
              </a:rPr>
              <a:t>http://en.wikipedia.org/wiki/Censorship_by_Googl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53"/>
                </a:solidFill>
                <a:latin typeface="Gill Sans MT"/>
              </a:rPr>
              <a:t>http://blogoscoped.com/archive/2007-03-02-n19.html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ernet Censorship</a:t>
            </a:r>
            <a:endParaRPr b="0" lang="en-US" sz="3200" spc="-1" strike="noStrike">
              <a:solidFill>
                <a:srgbClr val="464653"/>
              </a:solidFill>
              <a:latin typeface="Bookman Old Style"/>
            </a:endParaRPr>
          </a:p>
        </p:txBody>
      </p:sp>
      <p:sp>
        <p:nvSpPr>
          <p:cNvPr id="43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nation’s government decides to limit citizens’ Internet access to websites that it deems </a:t>
            </a:r>
            <a:r>
              <a:rPr b="0" lang="en-US" sz="2600" spc="-1" strike="noStrike" u="sng">
                <a:solidFill>
                  <a:srgbClr val="000000"/>
                </a:solidFill>
                <a:uFillTx/>
                <a:latin typeface="Gill Sans MT"/>
              </a:rPr>
              <a:t>obscene</a:t>
            </a:r>
            <a:r>
              <a:rPr b="0" lang="en-US" sz="2600" spc="-1" strike="noStrike">
                <a:solidFill>
                  <a:srgbClr val="000000"/>
                </a:solidFill>
                <a:latin typeface="Gill Sans MT"/>
              </a:rPr>
              <a:t> or </a:t>
            </a:r>
            <a:r>
              <a:rPr b="0" lang="en-US" sz="2600" spc="-1" strike="noStrike" u="sng">
                <a:solidFill>
                  <a:srgbClr val="000000"/>
                </a:solidFill>
                <a:uFillTx/>
                <a:latin typeface="Gill Sans MT"/>
              </a:rPr>
              <a:t>unfit for public use</a:t>
            </a: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what extent should a government control its citizens’ access to the Internet (or any international computer network)? </a:t>
            </a: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at about issues that involve national security? </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at about issues that involve illegal activities? </a:t>
            </a:r>
            <a:endParaRPr b="0" lang="en-US" sz="23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ine and justify a policy that describes when access to the Internet should be controlled, if at all.</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lagiarism in Computer Science</a:t>
            </a:r>
            <a:endParaRPr b="0" lang="en-US" sz="3200" spc="-1" strike="noStrike">
              <a:solidFill>
                <a:srgbClr val="464653"/>
              </a:solidFill>
              <a:latin typeface="Bookman Old Style"/>
            </a:endParaRPr>
          </a:p>
        </p:txBody>
      </p:sp>
      <p:sp>
        <p:nvSpPr>
          <p:cNvPr id="35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At Virginia Tech in 1997, dozens of students in a computer-programming course -- roughly 10% of a class of 600 -- were accused of electronically sharing information on a year-end assignme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At MIT in 1991, in an entry-level computer programming course … 73 students were disciplined” for cheat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mputers make it much easier for students to che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9" name="Footer Placeholder 3"/>
          <p:cNvSpPr/>
          <p:nvPr/>
        </p:nvSpPr>
        <p:spPr>
          <a:xfrm>
            <a:off x="609480" y="6356520"/>
            <a:ext cx="81536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b292ca"/>
                </a:solidFill>
                <a:uFillTx/>
                <a:latin typeface="Gill Sans MT"/>
                <a:hlinkClick r:id="rId1"/>
              </a:rPr>
              <a:t>http://www.nytimes.com/1998/09/23/us/universities-finding-a-sharp-rise-in-computer-aided-cheating.htm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b292ca"/>
                </a:solidFill>
                <a:uFillTx/>
                <a:latin typeface="Gill Sans MT"/>
                <a:hlinkClick r:id="rId2"/>
              </a:rPr>
              <a:t>http://www.nytimes.com/1991/05/22/technology/scandal-over-cheating-at-mit-stirs-debate-on-limits-of-teamwork.htm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 name="TextBox 5"/>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lagiarism in Computer Science</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but also much easier to catch cheate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Footer Placeholder 3"/>
          <p:cNvSpPr/>
          <p:nvPr/>
        </p:nvSpPr>
        <p:spPr>
          <a:xfrm>
            <a:off x="609480" y="6356520"/>
            <a:ext cx="80773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b292ca"/>
                </a:solidFill>
                <a:uFillTx/>
                <a:latin typeface="Gill Sans MT"/>
                <a:hlinkClick r:id="rId1"/>
              </a:rPr>
              <a:t>http://</a:t>
            </a:r>
            <a:r>
              <a:rPr b="0" lang="en-US" sz="1100" spc="-1" strike="noStrike" u="sng">
                <a:solidFill>
                  <a:srgbClr val="b292ca"/>
                </a:solidFill>
                <a:uFillTx/>
                <a:latin typeface="Gill Sans MT"/>
                <a:hlinkClick r:id="rId2"/>
              </a:rPr>
              <a:t>theory.stanford.edu/~aiken/moss</a:t>
            </a:r>
            <a:r>
              <a:rPr b="0" lang="en-US" sz="1100" spc="-1" strike="noStrike" u="sng">
                <a:solidFill>
                  <a:srgbClr val="b292ca"/>
                </a:solidFill>
                <a:uFillTx/>
                <a:latin typeface="Gill Sans MT"/>
                <a:hlinkClick r:id="rId3"/>
              </a:rPr>
              <a:t>/</a:t>
            </a:r>
            <a:r>
              <a:rPr b="0" lang="en-US" sz="1100" spc="-1" strike="noStrike">
                <a:solidFill>
                  <a:srgbClr val="464653"/>
                </a:solidFill>
                <a:latin typeface="Gill Sans MT"/>
              </a:rPr>
              <a:t> </a:t>
            </a:r>
            <a:endParaRPr b="0" lang="en-US" sz="1100" spc="-1" strike="noStrike">
              <a:solidFill>
                <a:srgbClr val="000000"/>
              </a:solidFill>
              <a:latin typeface="Arial"/>
            </a:endParaRPr>
          </a:p>
        </p:txBody>
      </p:sp>
      <p:pic>
        <p:nvPicPr>
          <p:cNvPr id="364" name="Picture 4" descr=""/>
          <p:cNvPicPr/>
          <p:nvPr/>
        </p:nvPicPr>
        <p:blipFill>
          <a:blip r:embed="rId4"/>
          <a:stretch/>
        </p:blipFill>
        <p:spPr>
          <a:xfrm>
            <a:off x="0" y="1752480"/>
            <a:ext cx="7405560" cy="4365720"/>
          </a:xfrm>
          <a:prstGeom prst="rect">
            <a:avLst/>
          </a:prstGeom>
          <a:ln w="0">
            <a:noFill/>
          </a:ln>
        </p:spPr>
      </p:pic>
      <p:sp>
        <p:nvSpPr>
          <p:cNvPr id="365" name="TextBox 7"/>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366" name="TextBox 8"/>
          <p:cNvSpPr/>
          <p:nvPr/>
        </p:nvSpPr>
        <p:spPr>
          <a:xfrm>
            <a:off x="7391520" y="2057400"/>
            <a:ext cx="17524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MOSS reports these programs as identical, even though the cheaters reformatted the code/comments, renamed variab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lagiarism in Computer Science</a:t>
            </a:r>
            <a:endParaRPr b="0" lang="en-US" sz="3200" spc="-1" strike="noStrike">
              <a:solidFill>
                <a:srgbClr val="464653"/>
              </a:solidFill>
              <a:latin typeface="Bookman Old Style"/>
            </a:endParaRPr>
          </a:p>
        </p:txBody>
      </p:sp>
      <p:sp>
        <p:nvSpPr>
          <p:cNvPr id="368" name=""/>
          <p:cNvSpPr txBox="1"/>
          <p:nvPr/>
        </p:nvSpPr>
        <p:spPr>
          <a:xfrm>
            <a:off x="456840" y="1218960"/>
            <a:ext cx="8534520" cy="525780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 CS1004 student is given an assignment in which she needs to implement a particular sorting algorithm as a small part of a more complex program. </a:t>
            </a:r>
            <a:endParaRPr b="0" lang="en-US" sz="3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Unfamiliar with the details of the sorting algorithm, she goes online and happens to find Java code that implements it. The student uses that code in her assignment, but does not explain where she found it.</a:t>
            </a: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369"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 Discussion</a:t>
            </a:r>
            <a:endParaRPr b="0" lang="en-US" sz="3200" spc="-1" strike="noStrike">
              <a:solidFill>
                <a:srgbClr val="464653"/>
              </a:solidFill>
              <a:latin typeface="Bookman Old Style"/>
            </a:endParaRPr>
          </a:p>
        </p:txBody>
      </p:sp>
      <p:sp>
        <p:nvSpPr>
          <p:cNvPr id="37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s this acceptable, since sorting algorithms are very commonly used and in this case it was only a small part of the assignment? </a:t>
            </a:r>
            <a:endParaRPr b="0" lang="en-US" sz="3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efine and justify a plagiarism policy that clearly explains when reusing code found online is acceptable in an educational setting, if at all.</a:t>
            </a:r>
            <a:endParaRPr b="0" lang="en-US" sz="3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72"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YI: Columbia’s policy on plagiarism</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www.cs.columbia.edu/education/honesty/</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ademic Dishonesty</a:t>
            </a:r>
            <a:endParaRPr b="0" lang="en-US" sz="2000" spc="-1" strike="noStrike">
              <a:solidFill>
                <a:srgbClr val="000000"/>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 student submitting work that is not original. </a:t>
            </a:r>
            <a:endParaRPr b="0" lang="en-US" sz="2000" spc="-1" strike="noStrike">
              <a:solidFill>
                <a:srgbClr val="464653"/>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 student submitting someone else's work, or a modification of that work, with or without that person's knowledge, regardless of the circumstances under which it was obtained, copied, or modified. </a:t>
            </a:r>
            <a:endParaRPr b="0" lang="en-US" sz="2000" spc="-1" strike="noStrike">
              <a:solidFill>
                <a:srgbClr val="464653"/>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 student allowing someone else to submit the student's work, or a modification of that work. </a:t>
            </a:r>
            <a:endParaRPr b="0" lang="en-US" sz="2000" spc="-1" strike="noStrike">
              <a:solidFill>
                <a:srgbClr val="464653"/>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Students solving as a group a problem in which group work is prohibited, and submitting multiple copies, each as individual work. </a:t>
            </a:r>
            <a:endParaRPr b="0" lang="en-US" sz="2000" spc="-1" strike="noStrike">
              <a:solidFill>
                <a:srgbClr val="464653"/>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 student using someone else's work, including segments of permitted program libraries, without proper attribution. </a:t>
            </a:r>
            <a:endParaRPr b="0" lang="en-US" sz="2000" spc="-1" strike="noStrike">
              <a:solidFill>
                <a:srgbClr val="464653"/>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2:</a:t>
            </a:r>
            <a:br>
              <a:rPr sz="3200"/>
            </a:br>
            <a:r>
              <a:rPr b="0" lang="en-US" sz="3200" spc="-1" strike="noStrike">
                <a:solidFill>
                  <a:srgbClr val="464653"/>
                </a:solidFill>
                <a:latin typeface="Bookman Old Style"/>
              </a:rPr>
              <a:t>Surveillance</a:t>
            </a:r>
            <a:endParaRPr b="0" lang="en-US" sz="3200" spc="-1" strike="noStrike">
              <a:solidFill>
                <a:srgbClr val="464653"/>
              </a:solidFill>
              <a:latin typeface="Bookman Old Style"/>
            </a:endParaRPr>
          </a:p>
        </p:txBody>
      </p:sp>
      <p:sp>
        <p:nvSpPr>
          <p:cNvPr id="3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London “Eye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cording to one estimate, the UK has one camera for every 14 people.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London congestion charge is enforced by cameras […], which automatically read the license plates of every car going into/out of downtown London.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fter the 7 July 2005 London bombings, CCTV footage was used to identify the bombers.</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nly 3% of street robberies in London were solved using CCTV images, despite the fact that Britain has more security cameras than any other country in Europe.</a:t>
            </a:r>
            <a:endParaRPr b="0" lang="en-US" sz="2600" spc="-1" strike="noStrike">
              <a:solidFill>
                <a:srgbClr val="000000"/>
              </a:solidFill>
              <a:latin typeface="Gill Sans MT"/>
            </a:endParaRPr>
          </a:p>
        </p:txBody>
      </p:sp>
      <p:sp>
        <p:nvSpPr>
          <p:cNvPr id="379"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380" name="Footer Placeholder 4"/>
          <p:cNvSpPr/>
          <p:nvPr/>
        </p:nvSpPr>
        <p:spPr>
          <a:xfrm>
            <a:off x="685800" y="6324480"/>
            <a:ext cx="594360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b292ca"/>
                </a:solidFill>
                <a:uFillTx/>
                <a:latin typeface="Gill Sans MT"/>
                <a:hlinkClick r:id="rId1"/>
              </a:rPr>
              <a:t>http://en.wikipedia.org/wiki/Closed-circuit_television</a:t>
            </a:r>
            <a:r>
              <a:rPr b="0" lang="en-US" sz="1100" spc="-1" strike="noStrike">
                <a:solidFill>
                  <a:srgbClr val="464653"/>
                </a:solidFill>
                <a:latin typeface="Gill Sans MT"/>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b292ca"/>
                </a:solidFill>
                <a:uFillTx/>
                <a:latin typeface="Gill Sans MT"/>
                <a:hlinkClick r:id="rId2"/>
              </a:rPr>
              <a:t>http://www.1to1media.com/View.aspx?DocId=31533</a:t>
            </a:r>
            <a:r>
              <a:rPr b="0" lang="en-US" sz="1100" spc="-1" strike="noStrike">
                <a:solidFill>
                  <a:srgbClr val="464653"/>
                </a:solidFill>
                <a:latin typeface="Gill Sans MT"/>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9:34:31Z</dcterms:created>
  <dc:creator>kristen</dc:creator>
  <dc:description/>
  <dc:language>en-US</dc:language>
  <cp:lastModifiedBy>Chris Murphy</cp:lastModifiedBy>
  <dcterms:modified xsi:type="dcterms:W3CDTF">2009-04-14T19:17:26Z</dcterms:modified>
  <cp:revision>31</cp:revision>
  <dc:subject/>
  <dc:title>Digital Dilemmas</dc:title>
</cp:coreProperties>
</file>