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976800" cy="329184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F2A6-6951-4CDB-87C7-A327B2CF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7760" y="1319040"/>
            <a:ext cx="38681280" cy="548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47760" y="7680240"/>
            <a:ext cx="3868128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47760" y="19028520"/>
            <a:ext cx="3868128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8CF-A4BD-4FC8-8059-B2B9607F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47760" y="1319040"/>
            <a:ext cx="38681280" cy="548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47760" y="7680240"/>
            <a:ext cx="1887624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968280" y="7680240"/>
            <a:ext cx="1887624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47760" y="19028520"/>
            <a:ext cx="1887624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968280" y="19028520"/>
            <a:ext cx="1887624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293-2934-4A66-B973-CF6F9B45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47760" y="1319040"/>
            <a:ext cx="38681280" cy="548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7760" y="7680240"/>
            <a:ext cx="1245528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26200" y="7680240"/>
            <a:ext cx="1245528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304640" y="7680240"/>
            <a:ext cx="1245528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47760" y="19028520"/>
            <a:ext cx="1245528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26200" y="19028520"/>
            <a:ext cx="1245528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304640" y="19028520"/>
            <a:ext cx="1245528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6C0-DE5E-4752-A0F9-F3BB42FD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47760" y="1319040"/>
            <a:ext cx="38681280" cy="548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47760" y="7680240"/>
            <a:ext cx="38681280" cy="217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1E2-1572-4479-AEA4-994791CE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47760" y="1319040"/>
            <a:ext cx="38681280" cy="548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47760" y="7680240"/>
            <a:ext cx="38681280" cy="217267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B7D-D3FD-49AC-A84E-77CF21E6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7760" y="1319040"/>
            <a:ext cx="38681280" cy="548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47760" y="7680240"/>
            <a:ext cx="18876240" cy="217267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968280" y="7680240"/>
            <a:ext cx="18876240" cy="217267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7B5-A02F-45BE-B87B-E3CFBD10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47760" y="1319040"/>
            <a:ext cx="38681280" cy="548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C74-73A8-4617-BC36-2C7271CD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47760" y="1319040"/>
            <a:ext cx="38681280" cy="254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1E8-F219-4969-9DB4-A282A44C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47760" y="1319040"/>
            <a:ext cx="38681280" cy="548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7760" y="7680240"/>
            <a:ext cx="1887624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968280" y="7680240"/>
            <a:ext cx="18876240" cy="217267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47760" y="19028520"/>
            <a:ext cx="1887624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9DD-F697-4829-8A90-01205554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47760" y="1319040"/>
            <a:ext cx="38681280" cy="548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47760" y="7680240"/>
            <a:ext cx="18876240" cy="217267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968280" y="7680240"/>
            <a:ext cx="1887624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968280" y="19028520"/>
            <a:ext cx="1887624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6E8-8087-4DF5-A613-0DBCBC6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47760" y="1319040"/>
            <a:ext cx="38681280" cy="548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47760" y="7680240"/>
            <a:ext cx="1887624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968280" y="7680240"/>
            <a:ext cx="1887624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47760" y="19028520"/>
            <a:ext cx="38681280" cy="103633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742-C696-4373-A7DB-809B269B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7760" y="1319040"/>
            <a:ext cx="38681280" cy="548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47760" y="7680240"/>
            <a:ext cx="38681280" cy="217267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565280" indent="-156528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1" marL="3392640" indent="-130500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2" marL="5219640" indent="-104436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3" marL="7307280" indent="-104472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4" marL="9394920" indent="-10447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5" marL="9394920" indent="-10447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6" marL="9394920" indent="-10447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47400" y="29978280"/>
            <a:ext cx="10028520" cy="2284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682960" y="29978280"/>
            <a:ext cx="13610880" cy="2284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ct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800160" y="29978280"/>
            <a:ext cx="10028520" cy="2284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175280"/>
                <a:tab algn="l" pos="8350200"/>
              </a:tabLst>
            </a:pPr>
            <a:fld id="{C5684660-9778-4F3E-AD44-D1E288B85A74}" type="slidenum">
              <a:rPr b="0" lang="en-US" sz="6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package" Target="../embeddings/oleObject2.xlsx"/><Relationship Id="rId15" Type="http://schemas.openxmlformats.org/officeDocument/2006/relationships/image" Target="../media/image13.wmf"/><Relationship Id="rId16" Type="http://schemas.openxmlformats.org/officeDocument/2006/relationships/package" Target="../embeddings/oleObject3.xlsx"/><Relationship Id="rId17" Type="http://schemas.openxmlformats.org/officeDocument/2006/relationships/image" Target="../media/image14.wmf"/><Relationship Id="rId18" Type="http://schemas.openxmlformats.org/officeDocument/2006/relationships/package" Target="../embeddings/oleObject4.xlsx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16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3160" y="25658640"/>
            <a:ext cx="11246040" cy="52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3160" y="20354760"/>
            <a:ext cx="11246040" cy="455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870120" y="-698400"/>
            <a:ext cx="45294840" cy="4889520"/>
          </a:xfrm>
          <a:prstGeom prst="rect">
            <a:avLst/>
          </a:prstGeom>
          <a:solidFill>
            <a:srgbClr val="98b2fa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17528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552680" y="9829800"/>
            <a:ext cx="13281120" cy="6045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037960" y="838080"/>
            <a:ext cx="2165184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Garamond"/>
              </a:rPr>
              <a:t>The Emerging Scholars Program (ESP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12280" y="26555760"/>
            <a:ext cx="5466240" cy="3891600"/>
            <a:chOff x="2312280" y="26555760"/>
            <a:chExt cx="5466240" cy="3891600"/>
          </a:xfrm>
        </p:grpSpPr>
        <p:pic>
          <p:nvPicPr>
            <p:cNvPr id="47" name="Picture 33" descr=""/>
            <p:cNvPicPr/>
            <p:nvPr/>
          </p:nvPicPr>
          <p:blipFill>
            <a:blip r:embed="rId2"/>
            <a:stretch/>
          </p:blipFill>
          <p:spPr>
            <a:xfrm>
              <a:off x="2468880" y="28299600"/>
              <a:ext cx="57996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31" descr=""/>
            <p:cNvPicPr/>
            <p:nvPr/>
          </p:nvPicPr>
          <p:blipFill>
            <a:blip r:embed="rId3"/>
            <a:stretch/>
          </p:blipFill>
          <p:spPr>
            <a:xfrm>
              <a:off x="2942640" y="26555760"/>
              <a:ext cx="41580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0" descr=""/>
            <p:cNvPicPr/>
            <p:nvPr/>
          </p:nvPicPr>
          <p:blipFill>
            <a:blip r:embed="rId4"/>
            <a:stretch/>
          </p:blipFill>
          <p:spPr>
            <a:xfrm>
              <a:off x="5452920" y="26607240"/>
              <a:ext cx="399960" cy="69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6" descr=""/>
            <p:cNvPicPr/>
            <p:nvPr/>
          </p:nvPicPr>
          <p:blipFill>
            <a:blip r:embed="rId5"/>
            <a:stretch/>
          </p:blipFill>
          <p:spPr>
            <a:xfrm>
              <a:off x="6677280" y="27149760"/>
              <a:ext cx="639000" cy="6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4"/>
            <p:cNvSpPr/>
            <p:nvPr/>
          </p:nvSpPr>
          <p:spPr>
            <a:xfrm>
              <a:off x="3360600" y="2665224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2471400" y="278956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g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6"/>
            <p:cNvSpPr/>
            <p:nvPr/>
          </p:nvSpPr>
          <p:spPr>
            <a:xfrm>
              <a:off x="4920120" y="26652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6686280" y="2773476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lh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023520" y="2896632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l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5461200" y="297345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4554720" y="280944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1"/>
            <p:cNvSpPr/>
            <p:nvPr/>
          </p:nvSpPr>
          <p:spPr>
            <a:xfrm>
              <a:off x="2312280" y="2965176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an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 flipH="1">
              <a:off x="3179880" y="27016560"/>
              <a:ext cx="283680" cy="10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2990160" y="28247760"/>
              <a:ext cx="425160" cy="14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 flipV="1">
              <a:off x="3699360" y="29734200"/>
              <a:ext cx="137376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>
              <a:off x="4884120" y="28349640"/>
              <a:ext cx="331200" cy="12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>
              <a:off x="3132000" y="28247760"/>
              <a:ext cx="1941120" cy="13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>
              <a:off x="3225960" y="28145880"/>
              <a:ext cx="132624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8"/>
            <p:cNvSpPr/>
            <p:nvPr/>
          </p:nvSpPr>
          <p:spPr>
            <a:xfrm>
              <a:off x="3653280" y="27016560"/>
              <a:ext cx="993240" cy="11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3889080" y="26914680"/>
              <a:ext cx="132624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 flipV="1">
              <a:off x="4978080" y="27169920"/>
              <a:ext cx="379080" cy="9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5546880" y="27169920"/>
              <a:ext cx="1182600" cy="6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 flipH="1">
              <a:off x="6351480" y="27888480"/>
              <a:ext cx="377640" cy="10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H="1">
              <a:off x="5357160" y="29120040"/>
              <a:ext cx="663120" cy="46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24" descr=""/>
            <p:cNvPicPr/>
            <p:nvPr/>
          </p:nvPicPr>
          <p:blipFill>
            <a:blip r:embed="rId6"/>
            <a:stretch/>
          </p:blipFill>
          <p:spPr>
            <a:xfrm>
              <a:off x="6371280" y="29320560"/>
              <a:ext cx="46368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5" descr=""/>
            <p:cNvPicPr/>
            <p:nvPr/>
          </p:nvPicPr>
          <p:blipFill>
            <a:blip r:embed="rId7"/>
            <a:stretch/>
          </p:blipFill>
          <p:spPr>
            <a:xfrm>
              <a:off x="3324960" y="29512080"/>
              <a:ext cx="52092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9" descr=""/>
            <p:cNvPicPr/>
            <p:nvPr/>
          </p:nvPicPr>
          <p:blipFill>
            <a:blip r:embed="rId8"/>
            <a:stretch/>
          </p:blipFill>
          <p:spPr>
            <a:xfrm>
              <a:off x="4600080" y="27169920"/>
              <a:ext cx="37440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2" descr=""/>
            <p:cNvPicPr/>
            <p:nvPr/>
          </p:nvPicPr>
          <p:blipFill>
            <a:blip r:embed="rId9"/>
            <a:stretch/>
          </p:blipFill>
          <p:spPr>
            <a:xfrm>
              <a:off x="5052960" y="29636280"/>
              <a:ext cx="476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Line 34"/>
            <p:cNvSpPr/>
            <p:nvPr/>
          </p:nvSpPr>
          <p:spPr>
            <a:xfrm flipH="1">
              <a:off x="5261760" y="27222120"/>
              <a:ext cx="143280" cy="241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864560" y="26404920"/>
            <a:ext cx="50482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implement Facebook’s “people you might know” fe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art is a zombie and we want to prevent the zombie disease from spreading to anyone else, how many people do we need to inocu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8048520" y="21431160"/>
            <a:ext cx="443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s: Khamatu, Pal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es: Kurkuma, Tuvarn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s: Varpalava, Tarkumu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5800" y="2569068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oper Black"/>
              </a:rPr>
              <a:t>Social Network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7701120" y="22971240"/>
          <a:ext cx="5022720" cy="1581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01120" y="22971240"/>
                    <a:ext cx="502272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125800" y="2043756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oper Black"/>
              </a:rPr>
              <a:t>Computational Lingu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1760" y="21321720"/>
            <a:ext cx="54324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the Luvian language names with their English trans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language clues can we use to guide the matching algorith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knowledge of Luvian to translate words from English into Luv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34672680" y="1368360"/>
            <a:ext cx="19890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36661680" y="1368360"/>
            <a:ext cx="2048040" cy="1984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60440" y="5022720"/>
            <a:ext cx="12317400" cy="134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25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Garamond"/>
              </a:rPr>
              <a:t>Goal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36760" y="6805440"/>
            <a:ext cx="1224108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e the enrollment of female students in Computer Science courses beyond CS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ltimately, increase the number of female CS maj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e that Computer Science is more than just programming, and that it is intrinsically collabora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 a network of undergraduate women interested in computers and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366880" y="7039080"/>
            <a:ext cx="12623760" cy="13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-Led Team Learning (PLTL) involves students working cooperatively in small groups, led by trained undergraduate peer leaders. PLTL is an Academic Alliance Best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emphasis is placed on solving problems as a team, and making the activities f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oblem solving helps develop algorithmic thinking, and demonstrates that Computer Science is a collaborative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 is organized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231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ject lead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develop materials for the workshop, with assistance fro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ulty advis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231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section is led by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er lea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 junior or senior female CS major, who presents the problems and directs the discu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231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section also ha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shop assis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 sophomore or junior CS major, who assists the leader and provides feedback about the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231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P sections have 6-9 students, who have to apply. Applicants must be female freshman or sophomore students currently enrolled in CS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each semester, all ESP alumnae are invited to an ESP reunion, which provides a chance for networking, Q&amp;A with a professor, and connecting with other resources within the CS depar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36760" y="14538240"/>
            <a:ext cx="650376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 is meant to be complementary to CS1, “Introduction to programm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s expose students to a variety of fields within 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is on higher-level problem solving, rather than technical details or coding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96920" y="23614200"/>
            <a:ext cx="1247004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pic Diver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itially, we had many AI topics, but the students wanted more brea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ing Probl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tudents rarely complain that things are too hard, but they are quick to notice when problems are too easy. Don’t underestimate the stud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owing P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panding from one section to two sections required more logistics than we imag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ruiting is 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ince classroom participation is essential, having one or two unmotivated students in a room of six can bring down the group morale. Next semester, we plan to have an info session to help increase our applicant pool, and allow for more targeted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827360" y="16791120"/>
            <a:ext cx="12852360" cy="134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25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27360" y="18613440"/>
            <a:ext cx="7267680" cy="10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past three semesters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0 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completed ESP in five different sections; at the last reunion, 15 students attended, showing that ESP remains a good networking opportunity for many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first two semesters, of the students who have declared majors, 42% of them have declared C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/12; 4 more have not decl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 also helps develop leadership: two of the ESP assistants have gone on to receive CRA-W summer research positions, and one of the ESP leaders now works full time at Microso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ity of students would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recommend ESP to other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368720" y="4856040"/>
            <a:ext cx="3595680" cy="4559400"/>
          </a:xfrm>
          <a:prstGeom prst="wedgeRoundRectCallout">
            <a:avLst>
              <a:gd name="adj1" fmla="val -31560"/>
              <a:gd name="adj2" fmla="val 1184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rough the varied workshops, I was exposed to interesting people and ideas, realizing the breadth of an entirely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ascinating 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in which I had no previous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502600" y="4876920"/>
            <a:ext cx="8797680" cy="2001600"/>
          </a:xfrm>
          <a:prstGeom prst="wedgeRoundRectCallout">
            <a:avLst>
              <a:gd name="adj1" fmla="val -10518"/>
              <a:gd name="adj2" fmla="val 29488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 love being part of ESP because it challenges me t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ink with a different perspective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and then apply it to computer science. What I've learned in the workshops has helped me grasp and understand many topics in my clas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249120" y="7010280"/>
            <a:ext cx="5126040" cy="2735280"/>
          </a:xfrm>
          <a:prstGeom prst="wedgeRoundRectCallout">
            <a:avLst>
              <a:gd name="adj1" fmla="val 12157"/>
              <a:gd name="adj2" fmla="val 1392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 loved being in a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mall group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because it forced us all to participate and I also loved having a workshop leader that was close in age and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ncouraged creative thinking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169120" y="14371560"/>
          <a:ext cx="5583240" cy="5515200"/>
        </p:xfrm>
        <a:graphic>
          <a:graphicData uri="http://schemas.openxmlformats.org/drawingml/2006/table">
            <a:tbl>
              <a:tblPr/>
              <a:tblGrid>
                <a:gridCol w="888840"/>
                <a:gridCol w="2309760"/>
                <a:gridCol w="2384640"/>
              </a:tblGrid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op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Week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Ice breakers; sudo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Representing problems abstract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Week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NIM; balancing co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Designing algorithms fo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Week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Cryptograms; com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Encoding; encry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Week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Problems in machine trans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Computational Lingu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Week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U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Human-Computer Interaction; UI 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Week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Face Recognition; Handwriting Recognition; Speech Recogn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Biometrics; Spoken Language Proc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Week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Fac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Graph Algorithms and Social Network Analy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Week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SP, cliques, vertex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NP Complete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Week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Digital Dilem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Ethics of technology; policy-making deci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 Reunion with Pinkber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284120" y="31318200"/>
            <a:ext cx="40473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P wishes to thank NCWIT and Microsoft Research for granting us seed funding; and the CS Department and Women in Computer Science for their continued supp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92040" y="2362320"/>
            <a:ext cx="20810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ofessor Adam Cannon, Christian Murphy, Kristen P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{cannon, cmurphy, kristen}@cs.columbia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ww.cs.columbia.edu/e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60440" y="12300120"/>
            <a:ext cx="12317400" cy="134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25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Garamond"/>
              </a:rPr>
              <a:t>ESP Topic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43200" y="5022720"/>
            <a:ext cx="12318840" cy="134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25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Garamond"/>
              </a:rPr>
              <a:t>PLTL Paradigm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43200" y="21796200"/>
            <a:ext cx="12318840" cy="134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25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Garamond"/>
              </a:rPr>
              <a:t>Lessons Learne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31440" y="18531000"/>
          <a:ext cx="5048280" cy="3978000"/>
        </p:xfrm>
        <a:graphic>
          <a:graphicData uri="http://schemas.openxmlformats.org/presentationml/2006/ole">
            <p:oleObj progId="Excel.Sheet.12" r:id="rId1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631440" y="18531000"/>
                    <a:ext cx="5048280" cy="39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6631440" y="22840920"/>
          <a:ext cx="5048280" cy="3967200"/>
        </p:xfrm>
        <a:graphic>
          <a:graphicData uri="http://schemas.openxmlformats.org/presentationml/2006/ole">
            <p:oleObj progId="Excel.Sheet.12" r:id="rId1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631440" y="22840920"/>
                    <a:ext cx="50482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6631440" y="27066960"/>
          <a:ext cx="5067360" cy="4010040"/>
        </p:xfrm>
        <a:graphic>
          <a:graphicData uri="http://schemas.openxmlformats.org/presentationml/2006/ole">
            <p:oleObj progId="Excel.Sheet.12"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6631440" y="27066960"/>
                    <a:ext cx="506736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554120" y="1523880"/>
          <a:ext cx="8199360" cy="1490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554120" y="1523880"/>
                    <a:ext cx="8199360" cy="14907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9:19:05Z</dcterms:created>
  <dc:creator>kristen</dc:creator>
  <dc:description/>
  <dc:language>en-US</dc:language>
  <cp:lastModifiedBy>kristen</cp:lastModifiedBy>
  <dcterms:modified xsi:type="dcterms:W3CDTF">2009-05-08T19:01:12Z</dcterms:modified>
  <cp:revision>13</cp:revision>
  <dc:subject/>
  <dc:title>Slide 1</dc:title>
</cp:coreProperties>
</file>