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2FC4-473E-4753-8F63-200CC6582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2CF-D328-47DD-B3F3-9AD5033CB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188-9A91-4D0D-BA3F-D48C73055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4752-1B0D-4897-8AF6-6F3D419E1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B45-45D3-48B1-AEA0-DBE4410C8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C96-0E82-45EF-967B-DC8D2E1D9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836-957F-41DD-972D-73BE5FA53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8BA-D04F-44D9-BB80-5DF4B4691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81D-86A6-4A9E-B86A-CDBA08717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EC84-FD26-469F-A655-64016CA47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A06D-9282-49A5-8CB6-50D13885C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FA4-0F3F-40CF-96F4-836BD62C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DCB-94C6-458C-9072-0660D5F1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A0B-C3DF-43AC-B76C-6B0D2BA2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16E-C981-40FE-874E-4F81784A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D5A-C66D-4D1C-86C4-FD486F4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C63-1338-4766-A6DC-06FF2DB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850-F80F-4BFB-BC73-65E3D88C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3EB-FCA3-4FD8-9FED-E478D232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766-A7A9-48A6-8D3C-41BA89C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6B8-9F46-4730-859F-4701046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E05-3DFC-4A93-A1DF-11CB806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8B3-BBAF-4212-9CDA-66A8074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3B4-27C3-4C16-95C7-BD0C81097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bK4cL3QSc0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it usefu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some example applic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omputers could do perfect and fast speech recognition, how would you use that to change the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it h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these words pronounced: colonel, Xue/shoe, pale/pail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o humans have trouble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se people say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each example tell us about difficulties in automatic speech recogn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9907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kaleidoscope.wav" descr=""/>
          <p:cNvPicPr/>
          <p:nvPr/>
        </p:nvPicPr>
        <p:blipFill>
          <a:blip r:embed="rId3"/>
          <a:stretch/>
        </p:blipFill>
        <p:spPr>
          <a:xfrm>
            <a:off x="32767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walking.wav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6324480" y="5715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was walking with a g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aid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 don’t ins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74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25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nformation could hel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ample is hard to understand, but we can still figure out what she’s saying. 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Barack Obama’s next wo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words are the most likely to come next and why? Are any of the others poss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 went to th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liberty and justice.wav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b.wav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248520" y="3505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swer: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bj.wav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1523880" y="5562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93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42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50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a single word in isolation. What could it b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hint. ASR thinks that the word has the following sound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possib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words are most likel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we calculate which words are most likel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just_parks.wav" descr=""/>
          <p:cNvPicPr/>
          <p:nvPr/>
        </p:nvPicPr>
        <p:blipFill>
          <a:blip r:embed="rId1"/>
          <a:stretch/>
        </p:blipFill>
        <p:spPr>
          <a:xfrm>
            <a:off x="746748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1676520" y="342900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/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438280" y="342900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h /aa /e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657600" y="34290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038480" y="342900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2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 Frequ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words are much more common than others. We can estimate how frequently words are used by looking at lots of examples of people talking or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Google tells us that these are the (approximate) frequencies of the following wor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se numbers, which word seems the most likely for the examp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2571840" cy="190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44764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259056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ow know that the speaker is from Boston. Does that change our guess as to which word it 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the whole sentence. How does the rest of the sentence help us figure out what word it w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RbK4cL3QSc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atoneofourparks.wav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29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: Prob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ies are 0.0 - 1.0; the higher, the more 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of two things a and b happening is: p(a) * p(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has already happened, the probability that b will then happen is p(b | 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p the AS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a few hypotheses for a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has different hypotheses for the previous word. Which word is most lik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problem with treating each word separatel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48520" y="1295280"/>
          <a:ext cx="2205000" cy="1113120"/>
        </p:xfrm>
        <a:graphic>
          <a:graphicData uri="http://schemas.openxmlformats.org/drawingml/2006/table">
            <a:tbl>
              <a:tblPr/>
              <a:tblGrid>
                <a:gridCol w="955440"/>
                <a:gridCol w="12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a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hi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77120" y="3276720"/>
          <a:ext cx="1677960" cy="1112760"/>
        </p:xfrm>
        <a:graphic>
          <a:graphicData uri="http://schemas.openxmlformats.org/drawingml/2006/table">
            <a:tbl>
              <a:tblPr/>
              <a:tblGrid>
                <a:gridCol w="922320"/>
                <a:gridCol w="755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sc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hai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w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igram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looking at 2 words at a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ords the system can’t figure out. The first is either “green” or “mean”. The second is either “plant” or “ca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hrase has the highest probabi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572000" y="3809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19920" y="3809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3657600"/>
          <a:ext cx="3065760" cy="2225520"/>
        </p:xfrm>
        <a:graphic>
          <a:graphicData uri="http://schemas.openxmlformats.org/drawingml/2006/table">
            <a:tbl>
              <a:tblPr/>
              <a:tblGrid>
                <a:gridCol w="1712880"/>
                <a:gridCol w="1352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gre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plan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cat | me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91" name="Straight Arrow Connector 9"/>
          <p:cNvCxnSpPr/>
          <p:nvPr/>
        </p:nvCxnSpPr>
        <p:spPr>
          <a:xfrm>
            <a:off x="5333760" y="4038120"/>
            <a:ext cx="686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10"/>
          <p:cNvCxnSpPr/>
          <p:nvPr/>
        </p:nvCxnSpPr>
        <p:spPr>
          <a:xfrm>
            <a:off x="5333760" y="4572000"/>
            <a:ext cx="686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12"/>
          <p:cNvCxnSpPr/>
          <p:nvPr/>
        </p:nvCxnSpPr>
        <p:spPr>
          <a:xfrm flipV="1">
            <a:off x="5333760" y="4114440"/>
            <a:ext cx="6102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4"/>
          <p:cNvCxnSpPr/>
          <p:nvPr/>
        </p:nvCxnSpPr>
        <p:spPr>
          <a:xfrm>
            <a:off x="5333760" y="4038480"/>
            <a:ext cx="6865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04:20Z</dcterms:created>
  <dc:creator>kristen</dc:creator>
  <dc:description/>
  <dc:language>en-US</dc:language>
  <cp:lastModifiedBy>kristen</cp:lastModifiedBy>
  <dcterms:modified xsi:type="dcterms:W3CDTF">2009-03-23T18:01:00Z</dcterms:modified>
  <cp:revision>25</cp:revision>
  <dc:subject/>
  <dc:title>Speech Recognition</dc:title>
</cp:coreProperties>
</file>