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97E5-B5A7-4866-84A8-38BFC103E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A8FD-E764-4897-BE6D-9056ABE46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2803-A2BA-4823-86CE-440784FD9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6469-E5B2-485D-803B-20323C015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72BF-35B8-4A4B-8686-196F40ED1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DD59-E9AF-433A-9CBD-63F96CC6E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2EE0E-C4AA-47A2-A2B5-231ECE379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1BA1-3D89-4130-A9D9-669D5DF2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0EE3F-D1A5-41D9-9260-C8F400E33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49F76-60DA-4DAB-B772-9792451C9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31FA6-DA45-4ACF-A900-DB4A04E2C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42821-4B1D-431E-AB45-B509379A3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CC67A-487F-455F-B868-501E3B5E3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6EBD7-2B8F-48E4-ADE9-F83E7AA66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3E2A4-A3D0-472E-BE2B-0F7384293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6C5FE-30FE-4AD1-A9D4-A68A0BD6A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03AF6-EF5F-4E47-9662-DF1BFD1B1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7DA6E-8184-4692-BFD7-98F6282DE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F1D1D-CC8B-4711-91E0-F3F06BED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55D6F-97C1-436C-9EBA-5DB9FDF24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7B82F-9929-4180-87C7-41D722800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07F18-CEB1-494E-9BE7-5F0A95052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E812E-556F-4C41-A3E6-F6A66194E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3F618A9-A7CF-4901-AC13-E53495C39E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1946EB-BA10-485F-842B-AC01B2A9C1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6B4144-1046-4802-89DF-595379D9F2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08ACC5-CE9A-4110-AB67-B02ECB2048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878046-FDDD-405F-BB0E-A0B7E29C7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83E53-E90A-4911-88A1-19CEA4A9A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7AC0DF-FC32-4BCA-BDC2-CE2386BFE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9D548C-0923-4989-89BB-F50CF441B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94CB65-3971-41A1-8631-527289914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FB61A7-4BAB-42B0-B863-1EC92FBF1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FB12DA-08DA-4525-8C05-B39B8408A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E5A1F9E-7990-4BA6-B735-6D25CA0A36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4476553-BC7E-429E-A317-D3090C0D74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16311D9-9ACD-4BCD-9FAF-0DED8739B0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253379-CE70-4F10-9E8C-C7C7C1E81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B712D1-572C-415C-AD31-381B714D1E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2BE24-F177-4B48-B8DA-AE0D46C24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529E19-B1C5-43B0-B7BF-4A52AE36A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A82CC66-D704-492D-928C-515B7900C1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C34CC0-28D5-4E97-BE72-25A151432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52A10E-BD0C-4EC5-A3F8-696532CF6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D43E4F-B741-4E4F-8C05-8E187AE26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4BAD33-9037-42AC-BFDB-B219C35E9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26A700C-B70C-462A-8A84-04E0A07FB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7DE678D-A888-4282-AF1A-12D1A5658F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C3E0829-2B56-41D0-AA15-ED84F54B7A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74BE35C-1B10-4A8D-A336-4BD4983746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62130-8274-4977-A789-F0DED543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7F9DC8-A46E-47E1-BDDF-408D854953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19F936-1389-4FF9-AF06-5DDD1A45B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3ED283-BD90-4AE7-93AE-1C1F33F209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ECB143-9941-4AE9-9294-376852DFC8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4EB91E-47F3-437E-A679-56925ACA94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BC4865-6EF8-406B-B528-F108CC7C3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A83E61-3D74-441E-A9F0-3B394CA3F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77054C-F581-4E2B-8453-196998FA0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338B94-20B7-4B87-A9A3-6137CFF57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53C5AF7-368B-4B8A-ACAE-372DF0A3A4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640DD-B823-445E-B325-C34F87471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589008-D3AA-4C08-A732-CDD044649A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33055D-127C-461F-BDCC-66CAD5E592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C224CB-4DA6-401C-9101-C1EE600EBC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702742-60D6-44C1-AB51-27993DC17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6B483B-B3E1-48FC-9742-76A5586C19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0DE0D4-DFDB-4F05-B7A7-89FCECEC6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F279E1-488E-4E9E-B8D1-BCD5A52D46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77FB6A-5B0A-4384-989C-67A3F2D65C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41208F-81FC-45DD-9AF4-E6F8C07CF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7EAAC-2139-4586-B000-2F9D12DCCB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A0ACB-1C6C-48AE-A5AF-E373FAABE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718612-9606-4F85-BEA0-8B84B0ED4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BE17C6-C186-41CA-9BB0-4548D0AECD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21F31E-34F0-4869-922D-9319BC2AC0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B56B4B1-BD4A-4B09-AFA1-92046268BA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56A95A-99A4-41B0-A01A-643976FB2C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C2C093-B334-4FCE-A8EE-1AFCD5AD6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665169F-9EF5-49B1-83D8-0DAFB10015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2B4637-7365-438D-84FD-891843BC21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469402-B07B-45AC-8E1D-B747689A52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BBC7F1-A180-46B2-B5D8-62C9143E6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1BC39-9B22-43CF-872E-B9B9AC479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8D4C299-48C5-4808-A8EE-25A81AA7C7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B0A942-6625-49C8-9A75-4ED841418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6933242-5412-4F25-92FD-BABA15178D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974332C-8B05-4DAF-8B15-DB049A8F8E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BAE9348-185B-4683-8832-E562E53336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A0F587-BB6E-4EB1-AE13-21603AE01B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FB298E-A283-4E6C-A0BB-7F042DB557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51AD4-C155-46CA-9DD4-C725BABD0B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DCE21-718B-4FDA-B19E-2FA35A58DB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1ADCB-380F-4D2D-B3CF-1D58B557CD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7E71-4260-4960-A18B-2953D3B66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BA91B6-D3CE-4EBC-B32D-65F31DBFFD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32DE4-205F-407B-B025-0EE3DECF0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36727-B0AC-4D36-A7AE-8EF10A300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1393C-3F0F-4C9A-9F18-A4C38D1B1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CAFF7A-D6BA-4AEC-B8E5-E130716F2D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15D696-5805-48AF-AFF9-ECD713F522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8FB672-5EA3-4A74-B9E8-751006DD9BD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8A33-E96A-4416-95A9-FF768662D5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AE7C-2227-4CD7-A3EC-F4068A7AD2C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DFFD-DC93-46FD-AC9A-409B21AA43B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9287-DF27-4083-AF26-0E2C8F35CD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A5B6-147F-498F-81B9-D7B6B1AF3B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9119-F9C1-40F9-AF64-43836B8F57E1}"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8659-D8EB-492C-980D-70BE2DBA2F6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BC57-8403-47BC-965A-B5492EE866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NCODING &amp; ENCRYPTION</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itmaps</a:t>
            </a:r>
            <a:endParaRPr b="0" lang="en-US" sz="4400" spc="-1" strike="noStrike">
              <a:solidFill>
                <a:srgbClr val="775f55"/>
              </a:solidFill>
              <a:latin typeface="Tw Cen MT"/>
            </a:endParaRPr>
          </a:p>
        </p:txBody>
      </p:sp>
      <p:sp>
        <p:nvSpPr>
          <p:cNvPr id="360" name=""/>
          <p:cNvSpPr txBox="1"/>
          <p:nvPr/>
        </p:nvSpPr>
        <p:spPr>
          <a:xfrm>
            <a:off x="457200" y="1676160"/>
            <a:ext cx="8229600" cy="5181480"/>
          </a:xfrm>
          <a:prstGeom prst="rect">
            <a:avLst/>
          </a:prstGeom>
          <a:noFill/>
          <a:ln w="0">
            <a:noFill/>
          </a:ln>
        </p:spPr>
        <p:txBody>
          <a:bodyPr anchor="t">
            <a:normAutofit/>
          </a:bodyPr>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team creates a 4-color 6x6 “image” using the graph paper handouts. Each box in the graph represents one pixel.</a:t>
            </a:r>
            <a:endParaRPr b="0" lang="en-US" sz="24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ext, assign each color a binary encoding. </a:t>
            </a:r>
            <a:endParaRPr b="0" lang="en-US" sz="24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sing the color codes, write out the full binary encoding of the image. Write it as one sequence of bits; don’t put it in a grid.</a:t>
            </a:r>
            <a:endParaRPr b="0" lang="en-US" sz="24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a:r>
            <a:r>
              <a:rPr b="0" lang="en-US" sz="2400" spc="-1" strike="noStrike">
                <a:solidFill>
                  <a:srgbClr val="000000"/>
                </a:solidFill>
                <a:latin typeface="Tw Cen MT"/>
              </a:rPr>
              <a:t>Send” the binary code and the color mapping (i.e., which color gets which encoding) to the other team, without the image. </a:t>
            </a:r>
            <a:endParaRPr b="0" lang="en-US" sz="24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sing their code, try to draw (decode) the image that they created. See which team can finish </a:t>
            </a:r>
            <a:r>
              <a:rPr b="1" lang="en-US" sz="2400" spc="-1" strike="noStrike">
                <a:solidFill>
                  <a:srgbClr val="000000"/>
                </a:solidFill>
                <a:latin typeface="Tw Cen MT"/>
              </a:rPr>
              <a:t>fastest</a:t>
            </a:r>
            <a:r>
              <a:rPr b="0" lang="en-US" sz="2400" spc="-1" strike="noStrike">
                <a:solidFill>
                  <a:srgbClr val="000000"/>
                </a:solidFill>
                <a:latin typeface="Tw Cen MT"/>
              </a:rPr>
              <a: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a:t>
            </a:r>
            <a:endParaRPr b="0" lang="en-US" sz="4400" spc="-1" strike="noStrike">
              <a:solidFill>
                <a:srgbClr val="775f55"/>
              </a:solidFill>
              <a:latin typeface="Tw Cen MT"/>
            </a:endParaRPr>
          </a:p>
        </p:txBody>
      </p:sp>
      <p:sp>
        <p:nvSpPr>
          <p:cNvPr id="362" name=""/>
          <p:cNvSpPr txBox="1"/>
          <p:nvPr/>
        </p:nvSpPr>
        <p:spPr>
          <a:xfrm>
            <a:off x="612720" y="1599840"/>
            <a:ext cx="8153280" cy="4876920"/>
          </a:xfrm>
          <a:prstGeom prst="rect">
            <a:avLst/>
          </a:prstGeom>
          <a:noFill/>
          <a:ln w="0">
            <a:noFill/>
          </a:ln>
        </p:spPr>
        <p:txBody>
          <a:bodyPr anchor="t">
            <a:normAutofit fontScale="95000"/>
          </a:bodyPr>
          <a:p>
            <a:pPr marL="578880" indent="-57888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many bits are needed to represent the 4-color 6x6 drawing? How many bytes is this? </a:t>
            </a:r>
            <a:endParaRPr b="0" lang="en-US" sz="2600" spc="-1" strike="noStrike">
              <a:solidFill>
                <a:srgbClr val="000000"/>
              </a:solidFill>
              <a:latin typeface="Tw Cen MT"/>
            </a:endParaRPr>
          </a:p>
          <a:p>
            <a:pPr marL="578880" indent="-578880"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Two bits per square on a 6x6 grid: 2*6*6 = 72 bits</a:t>
            </a:r>
            <a:endParaRPr b="0" lang="en-US" sz="2600" spc="-1" strike="noStrike">
              <a:solidFill>
                <a:srgbClr val="000000"/>
              </a:solidFill>
              <a:latin typeface="Tw Cen MT"/>
            </a:endParaRPr>
          </a:p>
          <a:p>
            <a:pPr marL="578880" indent="-578880"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Eight bits in one byte: 72/8 = 9 bytes</a:t>
            </a:r>
            <a:endParaRPr b="0" lang="en-US" sz="2600" spc="-1" strike="noStrike">
              <a:solidFill>
                <a:srgbClr val="000000"/>
              </a:solidFill>
              <a:latin typeface="Tw Cen MT"/>
            </a:endParaRPr>
          </a:p>
          <a:p>
            <a:pPr marL="578880" indent="-57888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if we wanted 8 colors? How many bytes would that take?</a:t>
            </a:r>
            <a:endParaRPr b="0" lang="en-US" sz="2600" spc="-1" strike="noStrike">
              <a:solidFill>
                <a:srgbClr val="000000"/>
              </a:solidFill>
              <a:latin typeface="Tw Cen MT"/>
            </a:endParaRPr>
          </a:p>
          <a:p>
            <a:pPr marL="578880" indent="-578880"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Bits required per color: log</a:t>
            </a:r>
            <a:r>
              <a:rPr b="0" lang="en-US" sz="2600" spc="-1" strike="noStrike" baseline="-25000">
                <a:solidFill>
                  <a:srgbClr val="dd8047"/>
                </a:solidFill>
                <a:latin typeface="Tw Cen MT"/>
              </a:rPr>
              <a:t>2</a:t>
            </a:r>
            <a:r>
              <a:rPr b="0" lang="en-US" sz="2600" spc="-1" strike="noStrike">
                <a:solidFill>
                  <a:srgbClr val="dd8047"/>
                </a:solidFill>
                <a:latin typeface="Tw Cen MT"/>
              </a:rPr>
              <a:t>8 = 3</a:t>
            </a:r>
            <a:endParaRPr b="0" lang="en-US" sz="2600" spc="-1" strike="noStrike">
              <a:solidFill>
                <a:srgbClr val="000000"/>
              </a:solidFill>
              <a:latin typeface="Tw Cen MT"/>
            </a:endParaRPr>
          </a:p>
          <a:p>
            <a:pPr marL="578880" indent="-578880"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Total bits required: 3*6*6 = 108 bits</a:t>
            </a:r>
            <a:endParaRPr b="0" lang="en-US" sz="2600" spc="-1" strike="noStrike">
              <a:solidFill>
                <a:srgbClr val="000000"/>
              </a:solidFill>
              <a:latin typeface="Tw Cen MT"/>
            </a:endParaRPr>
          </a:p>
          <a:p>
            <a:pPr marL="578880" indent="-578880"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Eight bits in one byte: 108/8 = 13.5 bytes</a:t>
            </a:r>
            <a:endParaRPr b="0" lang="en-US" sz="2600" spc="-1" strike="noStrike">
              <a:solidFill>
                <a:srgbClr val="000000"/>
              </a:solidFill>
              <a:latin typeface="Tw Cen MT"/>
            </a:endParaRPr>
          </a:p>
          <a:p>
            <a:pPr marL="578880" indent="-57888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if we wanted 8 colors, but an 8x8 pixel drawing? </a:t>
            </a:r>
            <a:endParaRPr b="0" lang="en-US" sz="2600" spc="-1" strike="noStrike">
              <a:solidFill>
                <a:srgbClr val="000000"/>
              </a:solidFill>
              <a:latin typeface="Tw Cen MT"/>
            </a:endParaRPr>
          </a:p>
          <a:p>
            <a:pPr marL="578880" indent="-578880"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3*8*8 = 192 bits = 24 bytes</a:t>
            </a:r>
            <a:endParaRPr b="0" lang="en-US" sz="2600" spc="-1" strike="noStrike">
              <a:solidFill>
                <a:srgbClr val="000000"/>
              </a:solidFill>
              <a:latin typeface="Tw Cen MT"/>
            </a:endParaRPr>
          </a:p>
          <a:p>
            <a:pPr marL="578880" indent="-57888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gital cameras take much nicer pictures than this! What if we used a bitmap scheme to encode a picture that was 2048 x 1536 pixels with 32-bit colors in each pixel? (Use a calculator!)</a:t>
            </a:r>
            <a:endParaRPr b="0" lang="en-US" sz="2600" spc="-1" strike="noStrike">
              <a:solidFill>
                <a:srgbClr val="000000"/>
              </a:solidFill>
              <a:latin typeface="Tw Cen MT"/>
            </a:endParaRPr>
          </a:p>
          <a:p>
            <a:pPr marL="578880" indent="-578880"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32*2048*1536 = 12,582,912 bytes ~ 12MB</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2">
                                            <p:txEl>
                                              <p:pRg st="0" end="0"/>
                                            </p:txEl>
                                          </p:spTgt>
                                        </p:tgtEl>
                                        <p:attrNameLst>
                                          <p:attrName>style.visibility</p:attrName>
                                        </p:attrNameLst>
                                      </p:cBhvr>
                                      <p:to>
                                        <p:strVal val="visible"/>
                                      </p:to>
                                    </p:set>
                                    <p:anim calcmode="lin" valueType="num">
                                      <p:cBhvr additive="base">
                                        <p:cTn id="7"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2">
                                            <p:txEl>
                                              <p:pRg st="1" end="1"/>
                                            </p:txEl>
                                          </p:spTgt>
                                        </p:tgtEl>
                                        <p:attrNameLst>
                                          <p:attrName>style.visibility</p:attrName>
                                        </p:attrNameLst>
                                      </p:cBhvr>
                                      <p:to>
                                        <p:strVal val="visible"/>
                                      </p:to>
                                    </p:set>
                                    <p:anim calcmode="lin" valueType="num">
                                      <p:cBhvr additive="base">
                                        <p:cTn id="13" dur="5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2">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362">
                                            <p:txEl>
                                              <p:pRg st="2" end="2"/>
                                            </p:txEl>
                                          </p:spTgt>
                                        </p:tgtEl>
                                        <p:attrNameLst>
                                          <p:attrName>style.visibility</p:attrName>
                                        </p:attrNameLst>
                                      </p:cBhvr>
                                      <p:to>
                                        <p:strVal val="visible"/>
                                      </p:to>
                                    </p:set>
                                    <p:anim calcmode="lin" valueType="num">
                                      <p:cBhvr additive="base">
                                        <p:cTn id="17" dur="500" fill="hold"/>
                                        <p:tgtEl>
                                          <p:spTgt spid="362">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62">
                                            <p:txEl>
                                              <p:pRg st="3" end="3"/>
                                            </p:txEl>
                                          </p:spTgt>
                                        </p:tgtEl>
                                        <p:attrNameLst>
                                          <p:attrName>style.visibility</p:attrName>
                                        </p:attrNameLst>
                                      </p:cBhvr>
                                      <p:to>
                                        <p:strVal val="visible"/>
                                      </p:to>
                                    </p:set>
                                    <p:anim calcmode="lin" valueType="num">
                                      <p:cBhvr additive="base">
                                        <p:cTn id="23" dur="500" fill="hold"/>
                                        <p:tgtEl>
                                          <p:spTgt spid="362">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62">
                                            <p:txEl>
                                              <p:pRg st="4" end="4"/>
                                            </p:txEl>
                                          </p:spTgt>
                                        </p:tgtEl>
                                        <p:attrNameLst>
                                          <p:attrName>style.visibility</p:attrName>
                                        </p:attrNameLst>
                                      </p:cBhvr>
                                      <p:to>
                                        <p:strVal val="visible"/>
                                      </p:to>
                                    </p:set>
                                    <p:anim calcmode="lin" valueType="num">
                                      <p:cBhvr additive="base">
                                        <p:cTn id="29" dur="500" fill="hold"/>
                                        <p:tgtEl>
                                          <p:spTgt spid="36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362">
                                            <p:txEl>
                                              <p:pRg st="4" end="4"/>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362">
                                            <p:txEl>
                                              <p:pRg st="5" end="5"/>
                                            </p:txEl>
                                          </p:spTgt>
                                        </p:tgtEl>
                                        <p:attrNameLst>
                                          <p:attrName>style.visibility</p:attrName>
                                        </p:attrNameLst>
                                      </p:cBhvr>
                                      <p:to>
                                        <p:strVal val="visible"/>
                                      </p:to>
                                    </p:set>
                                    <p:anim calcmode="lin" valueType="num">
                                      <p:cBhvr additive="base">
                                        <p:cTn id="33" dur="500" fill="hold"/>
                                        <p:tgtEl>
                                          <p:spTgt spid="362">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62">
                                            <p:txEl>
                                              <p:pRg st="5" end="5"/>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362">
                                            <p:txEl>
                                              <p:pRg st="6" end="6"/>
                                            </p:txEl>
                                          </p:spTgt>
                                        </p:tgtEl>
                                        <p:attrNameLst>
                                          <p:attrName>style.visibility</p:attrName>
                                        </p:attrNameLst>
                                      </p:cBhvr>
                                      <p:to>
                                        <p:strVal val="visible"/>
                                      </p:to>
                                    </p:set>
                                    <p:anim calcmode="lin" valueType="num">
                                      <p:cBhvr additive="base">
                                        <p:cTn id="37" dur="500" fill="hold"/>
                                        <p:tgtEl>
                                          <p:spTgt spid="362">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62">
                                            <p:txEl>
                                              <p:pRg st="7" end="7"/>
                                            </p:txEl>
                                          </p:spTgt>
                                        </p:tgtEl>
                                        <p:attrNameLst>
                                          <p:attrName>style.visibility</p:attrName>
                                        </p:attrNameLst>
                                      </p:cBhvr>
                                      <p:to>
                                        <p:strVal val="visible"/>
                                      </p:to>
                                    </p:set>
                                    <p:anim calcmode="lin" valueType="num">
                                      <p:cBhvr additive="base">
                                        <p:cTn id="43" dur="500" fill="hold"/>
                                        <p:tgtEl>
                                          <p:spTgt spid="362">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6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62">
                                            <p:txEl>
                                              <p:pRg st="8" end="8"/>
                                            </p:txEl>
                                          </p:spTgt>
                                        </p:tgtEl>
                                        <p:attrNameLst>
                                          <p:attrName>style.visibility</p:attrName>
                                        </p:attrNameLst>
                                      </p:cBhvr>
                                      <p:to>
                                        <p:strVal val="visible"/>
                                      </p:to>
                                    </p:set>
                                    <p:anim calcmode="lin" valueType="num">
                                      <p:cBhvr additive="base">
                                        <p:cTn id="49" dur="500" fill="hold"/>
                                        <p:tgtEl>
                                          <p:spTgt spid="362">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6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62">
                                            <p:txEl>
                                              <p:pRg st="9" end="9"/>
                                            </p:txEl>
                                          </p:spTgt>
                                        </p:tgtEl>
                                        <p:attrNameLst>
                                          <p:attrName>style.visibility</p:attrName>
                                        </p:attrNameLst>
                                      </p:cBhvr>
                                      <p:to>
                                        <p:strVal val="visible"/>
                                      </p:to>
                                    </p:set>
                                    <p:anim calcmode="lin" valueType="num">
                                      <p:cBhvr additive="base">
                                        <p:cTn id="55" dur="500" fill="hold"/>
                                        <p:tgtEl>
                                          <p:spTgt spid="362">
                                            <p:txEl>
                                              <p:pRg st="9" end="9"/>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6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62">
                                            <p:txEl>
                                              <p:pRg st="10" end="10"/>
                                            </p:txEl>
                                          </p:spTgt>
                                        </p:tgtEl>
                                        <p:attrNameLst>
                                          <p:attrName>style.visibility</p:attrName>
                                        </p:attrNameLst>
                                      </p:cBhvr>
                                      <p:to>
                                        <p:strVal val="visible"/>
                                      </p:to>
                                    </p:set>
                                    <p:anim calcmode="lin" valueType="num">
                                      <p:cBhvr additive="base">
                                        <p:cTn id="61" dur="500" fill="hold"/>
                                        <p:tgtEl>
                                          <p:spTgt spid="362">
                                            <p:txEl>
                                              <p:pRg st="10" end="1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ression</a:t>
            </a:r>
            <a:endParaRPr b="0" lang="en-US" sz="4400" spc="-1" strike="noStrike">
              <a:solidFill>
                <a:srgbClr val="775f55"/>
              </a:solidFill>
              <a:latin typeface="Tw Cen MT"/>
            </a:endParaRPr>
          </a:p>
        </p:txBody>
      </p:sp>
      <p:sp>
        <p:nvSpPr>
          <p:cNvPr id="364" name=""/>
          <p:cNvSpPr txBox="1"/>
          <p:nvPr/>
        </p:nvSpPr>
        <p:spPr>
          <a:xfrm>
            <a:off x="151920" y="1599840"/>
            <a:ext cx="8991720" cy="5257800"/>
          </a:xfrm>
          <a:prstGeom prst="rect">
            <a:avLst/>
          </a:prstGeom>
          <a:noFill/>
          <a:ln w="0">
            <a:noFill/>
          </a:ln>
        </p:spPr>
        <p:txBody>
          <a:bodyPr anchor="t">
            <a:normAutofit/>
          </a:bodyPr>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ach team comes up with an 8-color 8x8 drawing using the graph paper handouts. Each box in the graph represents one pixel.</a:t>
            </a: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time, work as a team to come up with a new </a:t>
            </a:r>
            <a:r>
              <a:rPr b="0" i="1" lang="en-US" sz="2000" spc="-1" strike="noStrike">
                <a:solidFill>
                  <a:srgbClr val="000000"/>
                </a:solidFill>
                <a:latin typeface="Tw Cen MT"/>
              </a:rPr>
              <a:t>encoding algorithm</a:t>
            </a:r>
            <a:r>
              <a:rPr b="0" lang="en-US" sz="2000" spc="-1" strike="noStrike">
                <a:solidFill>
                  <a:srgbClr val="000000"/>
                </a:solidFill>
                <a:latin typeface="Tw Cen MT"/>
              </a:rPr>
              <a:t> that requires fewer bits than the bitmap. Write out instructions on how to encode each image. You can write them in English, pseudo-code, or whatever is convenient. </a:t>
            </a: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w work together to encode your new image in binary.</a:t>
            </a: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nally, as a team, write instructions to the other team on how to </a:t>
            </a:r>
            <a:r>
              <a:rPr b="0" i="1" lang="en-US" sz="2000" spc="-1" strike="noStrike">
                <a:solidFill>
                  <a:srgbClr val="000000"/>
                </a:solidFill>
                <a:latin typeface="Tw Cen MT"/>
              </a:rPr>
              <a:t>decode</a:t>
            </a:r>
            <a:r>
              <a:rPr b="0" lang="en-US" sz="2000" spc="-1" strike="noStrike">
                <a:solidFill>
                  <a:srgbClr val="000000"/>
                </a:solidFill>
                <a:latin typeface="Tw Cen MT"/>
              </a:rPr>
              <a:t> it. </a:t>
            </a: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Send” the binary code </a:t>
            </a:r>
            <a:r>
              <a:rPr b="0" lang="en-US" sz="2000" spc="-1" strike="noStrike" u="sng">
                <a:solidFill>
                  <a:srgbClr val="000000"/>
                </a:solidFill>
                <a:uFillTx/>
                <a:latin typeface="Tw Cen MT"/>
              </a:rPr>
              <a:t>and the decoding instructions</a:t>
            </a:r>
            <a:r>
              <a:rPr b="0" lang="en-US" sz="2000" spc="-1" strike="noStrike">
                <a:solidFill>
                  <a:srgbClr val="000000"/>
                </a:solidFill>
                <a:latin typeface="Tw Cen MT"/>
              </a:rPr>
              <a:t> to the other team, without the image. Your team gets their code.</a:t>
            </a: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Using their code, try to draw (decode) the image that they created. </a:t>
            </a: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609480" indent="-609480">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The team whose compression algorithm is most efficient wins.</a:t>
            </a:r>
            <a:r>
              <a:rPr b="0" lang="en-US" sz="2000" spc="-1" strike="noStrike">
                <a:solidFill>
                  <a:srgbClr val="000000"/>
                </a:solidFill>
                <a:latin typeface="Tw Cen MT"/>
              </a:rPr>
              <a: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fontScale="97000"/>
          </a:bodyPr>
          <a:p>
            <a:pPr marL="591120" indent="-5911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many bytes did team 1’s image take up? Team 2’s? Whose was a more </a:t>
            </a:r>
            <a:r>
              <a:rPr b="0" i="1" lang="en-US" sz="2900" spc="-1" strike="noStrike">
                <a:solidFill>
                  <a:srgbClr val="000000"/>
                </a:solidFill>
                <a:latin typeface="Tw Cen MT"/>
              </a:rPr>
              <a:t>efficient</a:t>
            </a:r>
            <a:r>
              <a:rPr b="0" lang="en-US" sz="2900" spc="-1" strike="noStrike">
                <a:solidFill>
                  <a:srgbClr val="000000"/>
                </a:solidFill>
                <a:latin typeface="Tw Cen MT"/>
              </a:rPr>
              <a:t> encoding?</a:t>
            </a:r>
            <a:endParaRPr b="0" lang="en-US" sz="2900" spc="-1" strike="noStrike">
              <a:solidFill>
                <a:srgbClr val="000000"/>
              </a:solidFill>
              <a:latin typeface="Tw Cen MT"/>
            </a:endParaRPr>
          </a:p>
          <a:p>
            <a:pPr marL="591120" indent="-5911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91120" indent="-5911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ea typeface="굴림"/>
              </a:rPr>
              <a:t>For the bitmap, all images of the same size and number of colors take up the same size on disk. For the new compression scheme, are there certain images that would take up more space than other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2:12:16Z</dcterms:created>
  <dc:creator>Chris Murphy</dc:creator>
  <dc:description/>
  <dc:language>en-US</dc:language>
  <cp:lastModifiedBy>kristen</cp:lastModifiedBy>
  <dcterms:modified xsi:type="dcterms:W3CDTF">2010-02-22T19:27:28Z</dcterms:modified>
  <cp:revision>21</cp:revision>
  <dc:subject/>
  <dc:title>Slide 1</dc:title>
</cp:coreProperties>
</file>