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1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941C647-0D3B-491B-8552-864B018A4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99BE287-FB5E-463B-931D-8C98CAD5D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8165606-2940-496E-ADBC-D926659DD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16A8DF8-5DDE-46AE-9B5D-4EA3E4987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0457F19-3E77-4DC0-A30A-329990F4E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EC25638-7B82-4361-B3D8-4AA735177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F7D112F-31B9-4364-B6BF-FD45DF2E0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1ACD25A-81F9-4B20-A426-0929422A6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FDE3646-7C44-479A-B4FF-3A4C063D8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9753449-A38F-4865-84FA-F9E3EFE1E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02E20A-AF79-45C0-98BB-E9EC76575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845AD34-B3EC-4673-81B4-10757BCD3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1B8C08-F447-492A-9CEB-D0C1DFDD3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635CC6-05D6-4825-9C8D-E80E42AA3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B4EEF96-1628-4B13-8F03-EB1749738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47588E4-FAAB-4DF4-BE31-883F6B1A9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22860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71600" y="22860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371600" y="22860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file:///C:/Documents%20and%20Settings/kristen/Desktop/cscu.jpg"/>
          <p:cNvPicPr/>
          <p:nvPr/>
        </p:nvPicPr>
        <p:blipFill>
          <a:blip r:embed="rId2"/>
          <a:stretch/>
        </p:blipFill>
        <p:spPr>
          <a:xfrm>
            <a:off x="304920" y="304920"/>
            <a:ext cx="952560" cy="771480"/>
          </a:xfrm>
          <a:prstGeom prst="rect">
            <a:avLst/>
          </a:prstGeom>
          <a:ln w="0">
            <a:noFill/>
          </a:ln>
        </p:spPr>
      </p:pic>
      <p:sp>
        <p:nvSpPr>
          <p:cNvPr id="3" name="Line 5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oracleofbacon.org/" TargetMode="External"/><Relationship Id="rId2" Type="http://schemas.openxmlformats.org/officeDocument/2006/relationships/hyperlink" Target="http://xkcd.com/599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762120" y="2590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ESP: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Social Networks</a:t>
            </a: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You can actually </a:t>
            </a:r>
            <a:r>
              <a:rPr b="0" i="1" lang="en-US" sz="3600" spc="-1" strike="noStrike">
                <a:solidFill>
                  <a:srgbClr val="cc0000"/>
                </a:solidFill>
                <a:latin typeface="Arial"/>
              </a:rPr>
              <a:t>learn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 something from Faceboo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file:///C:/Documents%20and%20Settings/kristen/Desktop/cscu.jpg"/>
          <p:cNvPicPr/>
          <p:nvPr/>
        </p:nvPicPr>
        <p:blipFill>
          <a:blip r:embed="rId1"/>
          <a:stretch/>
        </p:blipFill>
        <p:spPr>
          <a:xfrm>
            <a:off x="4114800" y="1752480"/>
            <a:ext cx="9525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enter of a graph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node in the graph, calculate the sum of the shortest distances to all the other nodes in the grap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80880" y="2286000"/>
          <a:ext cx="8229600" cy="1463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n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h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Rectangle 34"/>
          <p:cNvSpPr/>
          <p:nvPr/>
        </p:nvSpPr>
        <p:spPr>
          <a:xfrm>
            <a:off x="457200" y="411480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de with the smallest sum 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raph. Which node is the center of the grap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center of the graph have the most friend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enter of a graph and most friend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enter of the grap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erson with the most friend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raph in which the center of the graph does not have the most friends. Your graph should have fewer than 12 no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Viral marketing in a social net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e you are planning a viral marketing campaign (in which information about a product, service, etc. travels by word of mouth from friend to fri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a limited budget to pay off certain “seeds” who will tell all their friends about your fabulous new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can pay only one seed, who should it be? Hint: there may be more than one right answ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Viral marketing in a social net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hink of an example where the seed is not the center of the net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n algorithm for finding a single s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you want two “seeds”? Who would you seed in the Simpsons net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noculation in a social net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networks can also be used as a way of determining the spread of a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ors can use these to determine who should be inoculated so that the disease doesn’t spread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adeoff is to find the minimum number of people to inoculate in order to protect the maximum number of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Bart is a zombie and we want to preven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mbie disease from spreading to anyone el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people do we need to inocul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simpsonGO_b"/>
          <p:cNvPicPr/>
          <p:nvPr/>
        </p:nvPicPr>
        <p:blipFill>
          <a:blip r:embed="rId1"/>
          <a:stretch/>
        </p:blipFill>
        <p:spPr>
          <a:xfrm>
            <a:off x="7010280" y="3124080"/>
            <a:ext cx="14446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noculation in a social net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Marge and Homer are zombies and we can only inoculate two people, who should be inoculated so that the greatest number of people are saved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key feature for selecting candidates for inocul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omplexity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ll do your algorithms scale to large graphs? Many algorithms become much more complex once the graph starts to get big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ocial network on the next page, apply your algorithms and see how easy/hard it is to find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est path between Jasmine and Es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est path between Beth and 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is the center of the grap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pair of has the strongest friendshi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would make a good single seed for viral marke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iana and Jasmine are zombies, and you can inoculate 2 people, who would you inoculate? How many would you s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iana and Jasmine are zombies, and you can inoculate 3 people, who would you inoculate? How many would you s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omplexity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76680" y="1600200"/>
            <a:ext cx="8750520" cy="4634280"/>
            <a:chOff x="76680" y="1600200"/>
            <a:chExt cx="8750520" cy="4634280"/>
          </a:xfrm>
        </p:grpSpPr>
        <p:sp>
          <p:nvSpPr>
            <p:cNvPr id="189" name="Text Box 4"/>
            <p:cNvSpPr/>
            <p:nvPr/>
          </p:nvSpPr>
          <p:spPr>
            <a:xfrm>
              <a:off x="2043000" y="16002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2134080" y="2962800"/>
              <a:ext cx="49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3810240" y="1933560"/>
              <a:ext cx="54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7"/>
            <p:cNvSpPr/>
            <p:nvPr/>
          </p:nvSpPr>
          <p:spPr>
            <a:xfrm>
              <a:off x="4876560" y="371160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2362680" y="417960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5791320" y="2027160"/>
              <a:ext cx="56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o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0"/>
            <p:cNvSpPr/>
            <p:nvPr/>
          </p:nvSpPr>
          <p:spPr>
            <a:xfrm>
              <a:off x="7925040" y="277560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isel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1"/>
            <p:cNvSpPr/>
            <p:nvPr/>
          </p:nvSpPr>
          <p:spPr>
            <a:xfrm>
              <a:off x="3506040" y="30564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rri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2"/>
            <p:cNvSpPr/>
            <p:nvPr/>
          </p:nvSpPr>
          <p:spPr>
            <a:xfrm>
              <a:off x="4800600" y="5115600"/>
              <a:ext cx="58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ab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6172200" y="436644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asm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4"/>
            <p:cNvSpPr/>
            <p:nvPr/>
          </p:nvSpPr>
          <p:spPr>
            <a:xfrm>
              <a:off x="76680" y="3898800"/>
              <a:ext cx="49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5"/>
            <p:cNvSpPr/>
            <p:nvPr/>
          </p:nvSpPr>
          <p:spPr>
            <a:xfrm>
              <a:off x="837360" y="2401200"/>
              <a:ext cx="63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ui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6"/>
            <p:cNvSpPr/>
            <p:nvPr/>
          </p:nvSpPr>
          <p:spPr>
            <a:xfrm>
              <a:off x="1677240" y="548964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7"/>
            <p:cNvSpPr/>
            <p:nvPr/>
          </p:nvSpPr>
          <p:spPr>
            <a:xfrm>
              <a:off x="3962520" y="5958000"/>
              <a:ext cx="60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ico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8"/>
            <p:cNvSpPr/>
            <p:nvPr/>
          </p:nvSpPr>
          <p:spPr>
            <a:xfrm>
              <a:off x="7238880" y="1839600"/>
              <a:ext cx="70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s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9"/>
            <p:cNvSpPr/>
            <p:nvPr/>
          </p:nvSpPr>
          <p:spPr>
            <a:xfrm>
              <a:off x="7998840" y="3618000"/>
              <a:ext cx="82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nelo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6554160" y="586404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ti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1"/>
            <p:cNvSpPr/>
            <p:nvPr/>
          </p:nvSpPr>
          <p:spPr>
            <a:xfrm>
              <a:off x="685800" y="5115600"/>
              <a:ext cx="45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2"/>
            <p:cNvSpPr/>
            <p:nvPr/>
          </p:nvSpPr>
          <p:spPr>
            <a:xfrm>
              <a:off x="5715720" y="333720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3"/>
            <p:cNvSpPr/>
            <p:nvPr/>
          </p:nvSpPr>
          <p:spPr>
            <a:xfrm>
              <a:off x="7848000" y="492804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o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4"/>
            <p:cNvSpPr/>
            <p:nvPr/>
          </p:nvSpPr>
          <p:spPr>
            <a:xfrm>
              <a:off x="2819880" y="567720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in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5"/>
            <p:cNvSpPr/>
            <p:nvPr/>
          </p:nvSpPr>
          <p:spPr>
            <a:xfrm>
              <a:off x="4723920" y="2682000"/>
              <a:ext cx="53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u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6"/>
            <p:cNvSpPr/>
            <p:nvPr/>
          </p:nvSpPr>
          <p:spPr>
            <a:xfrm flipV="1">
              <a:off x="533520" y="2682000"/>
              <a:ext cx="533160" cy="13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7"/>
            <p:cNvSpPr/>
            <p:nvPr/>
          </p:nvSpPr>
          <p:spPr>
            <a:xfrm>
              <a:off x="533520" y="4085640"/>
              <a:ext cx="304560" cy="10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8"/>
            <p:cNvSpPr/>
            <p:nvPr/>
          </p:nvSpPr>
          <p:spPr>
            <a:xfrm flipV="1">
              <a:off x="533520" y="3150000"/>
              <a:ext cx="1676160" cy="84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9"/>
            <p:cNvSpPr/>
            <p:nvPr/>
          </p:nvSpPr>
          <p:spPr>
            <a:xfrm>
              <a:off x="1371600" y="2588760"/>
              <a:ext cx="838080" cy="5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0"/>
            <p:cNvSpPr/>
            <p:nvPr/>
          </p:nvSpPr>
          <p:spPr>
            <a:xfrm flipV="1">
              <a:off x="914400" y="3243240"/>
              <a:ext cx="1295280" cy="19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1"/>
            <p:cNvSpPr/>
            <p:nvPr/>
          </p:nvSpPr>
          <p:spPr>
            <a:xfrm flipH="1">
              <a:off x="914040" y="2682000"/>
              <a:ext cx="228600" cy="243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2"/>
            <p:cNvSpPr/>
            <p:nvPr/>
          </p:nvSpPr>
          <p:spPr>
            <a:xfrm>
              <a:off x="2286000" y="1933560"/>
              <a:ext cx="76320" cy="112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3"/>
            <p:cNvSpPr/>
            <p:nvPr/>
          </p:nvSpPr>
          <p:spPr>
            <a:xfrm flipV="1">
              <a:off x="1371600" y="1839600"/>
              <a:ext cx="76212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34"/>
            <p:cNvSpPr/>
            <p:nvPr/>
          </p:nvSpPr>
          <p:spPr>
            <a:xfrm>
              <a:off x="2438280" y="3243600"/>
              <a:ext cx="152640" cy="10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5"/>
            <p:cNvSpPr/>
            <p:nvPr/>
          </p:nvSpPr>
          <p:spPr>
            <a:xfrm flipV="1">
              <a:off x="1371600" y="2120400"/>
              <a:ext cx="25146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6"/>
            <p:cNvSpPr/>
            <p:nvPr/>
          </p:nvSpPr>
          <p:spPr>
            <a:xfrm flipH="1">
              <a:off x="3733920" y="2214000"/>
              <a:ext cx="304560" cy="93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7"/>
            <p:cNvSpPr/>
            <p:nvPr/>
          </p:nvSpPr>
          <p:spPr>
            <a:xfrm flipV="1">
              <a:off x="2819520" y="3337200"/>
              <a:ext cx="838080" cy="93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8"/>
            <p:cNvSpPr/>
            <p:nvPr/>
          </p:nvSpPr>
          <p:spPr>
            <a:xfrm flipV="1">
              <a:off x="3809880" y="2869200"/>
              <a:ext cx="990720" cy="2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9"/>
            <p:cNvSpPr/>
            <p:nvPr/>
          </p:nvSpPr>
          <p:spPr>
            <a:xfrm>
              <a:off x="4114800" y="2214000"/>
              <a:ext cx="685800" cy="5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0"/>
            <p:cNvSpPr/>
            <p:nvPr/>
          </p:nvSpPr>
          <p:spPr>
            <a:xfrm>
              <a:off x="4952880" y="2962800"/>
              <a:ext cx="76320" cy="84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41"/>
            <p:cNvSpPr/>
            <p:nvPr/>
          </p:nvSpPr>
          <p:spPr>
            <a:xfrm>
              <a:off x="4038480" y="2214000"/>
              <a:ext cx="990720" cy="159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2"/>
            <p:cNvSpPr/>
            <p:nvPr/>
          </p:nvSpPr>
          <p:spPr>
            <a:xfrm flipV="1">
              <a:off x="4343400" y="3992040"/>
              <a:ext cx="609480" cy="19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3"/>
            <p:cNvSpPr/>
            <p:nvPr/>
          </p:nvSpPr>
          <p:spPr>
            <a:xfrm>
              <a:off x="3809880" y="3337200"/>
              <a:ext cx="533520" cy="262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44"/>
            <p:cNvSpPr/>
            <p:nvPr/>
          </p:nvSpPr>
          <p:spPr>
            <a:xfrm>
              <a:off x="4038480" y="2307960"/>
              <a:ext cx="30492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45"/>
            <p:cNvSpPr/>
            <p:nvPr/>
          </p:nvSpPr>
          <p:spPr>
            <a:xfrm flipV="1">
              <a:off x="4343400" y="2962440"/>
              <a:ext cx="457200" cy="290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46"/>
            <p:cNvSpPr/>
            <p:nvPr/>
          </p:nvSpPr>
          <p:spPr>
            <a:xfrm>
              <a:off x="2514600" y="3243600"/>
              <a:ext cx="1828800" cy="27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47"/>
            <p:cNvSpPr/>
            <p:nvPr/>
          </p:nvSpPr>
          <p:spPr>
            <a:xfrm flipH="1">
              <a:off x="1904760" y="4460400"/>
              <a:ext cx="609480" cy="112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8"/>
            <p:cNvSpPr/>
            <p:nvPr/>
          </p:nvSpPr>
          <p:spPr>
            <a:xfrm>
              <a:off x="2666880" y="4460400"/>
              <a:ext cx="457200" cy="13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49"/>
            <p:cNvSpPr/>
            <p:nvPr/>
          </p:nvSpPr>
          <p:spPr>
            <a:xfrm flipH="1">
              <a:off x="1905120" y="3337200"/>
              <a:ext cx="380880" cy="22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0"/>
            <p:cNvSpPr/>
            <p:nvPr/>
          </p:nvSpPr>
          <p:spPr>
            <a:xfrm flipV="1">
              <a:off x="3124080" y="3336840"/>
              <a:ext cx="533520" cy="23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 flipV="1">
              <a:off x="990720" y="2214000"/>
              <a:ext cx="2971800" cy="29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2"/>
            <p:cNvSpPr/>
            <p:nvPr/>
          </p:nvSpPr>
          <p:spPr>
            <a:xfrm flipV="1">
              <a:off x="4952880" y="2213640"/>
              <a:ext cx="838440" cy="5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53"/>
            <p:cNvSpPr/>
            <p:nvPr/>
          </p:nvSpPr>
          <p:spPr>
            <a:xfrm flipH="1">
              <a:off x="5181480" y="2307960"/>
              <a:ext cx="60984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54"/>
            <p:cNvSpPr/>
            <p:nvPr/>
          </p:nvSpPr>
          <p:spPr>
            <a:xfrm flipV="1">
              <a:off x="6248520" y="2026800"/>
              <a:ext cx="1066680" cy="9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55"/>
            <p:cNvSpPr/>
            <p:nvPr/>
          </p:nvSpPr>
          <p:spPr>
            <a:xfrm>
              <a:off x="6324480" y="2214000"/>
              <a:ext cx="1600200" cy="28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56"/>
            <p:cNvSpPr/>
            <p:nvPr/>
          </p:nvSpPr>
          <p:spPr>
            <a:xfrm flipH="1">
              <a:off x="6553080" y="2120400"/>
              <a:ext cx="914400" cy="23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57"/>
            <p:cNvSpPr/>
            <p:nvPr/>
          </p:nvSpPr>
          <p:spPr>
            <a:xfrm flipH="1">
              <a:off x="5181120" y="2307960"/>
              <a:ext cx="762120" cy="29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58"/>
            <p:cNvSpPr/>
            <p:nvPr/>
          </p:nvSpPr>
          <p:spPr>
            <a:xfrm flipV="1">
              <a:off x="5334120" y="5115240"/>
              <a:ext cx="259056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59"/>
            <p:cNvSpPr/>
            <p:nvPr/>
          </p:nvSpPr>
          <p:spPr>
            <a:xfrm>
              <a:off x="7467480" y="2120400"/>
              <a:ext cx="457200" cy="290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60"/>
            <p:cNvSpPr/>
            <p:nvPr/>
          </p:nvSpPr>
          <p:spPr>
            <a:xfrm flipV="1">
              <a:off x="5257800" y="4646880"/>
              <a:ext cx="1066680" cy="5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61"/>
            <p:cNvSpPr/>
            <p:nvPr/>
          </p:nvSpPr>
          <p:spPr>
            <a:xfrm flipV="1">
              <a:off x="5181480" y="2120400"/>
              <a:ext cx="2210040" cy="308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62"/>
            <p:cNvSpPr/>
            <p:nvPr/>
          </p:nvSpPr>
          <p:spPr>
            <a:xfrm>
              <a:off x="6858000" y="4647240"/>
              <a:ext cx="106668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63"/>
            <p:cNvSpPr/>
            <p:nvPr/>
          </p:nvSpPr>
          <p:spPr>
            <a:xfrm>
              <a:off x="6172200" y="2307960"/>
              <a:ext cx="304920" cy="21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64"/>
            <p:cNvSpPr/>
            <p:nvPr/>
          </p:nvSpPr>
          <p:spPr>
            <a:xfrm flipV="1">
              <a:off x="5943600" y="2307600"/>
              <a:ext cx="76320" cy="10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65"/>
            <p:cNvSpPr/>
            <p:nvPr/>
          </p:nvSpPr>
          <p:spPr>
            <a:xfrm flipV="1">
              <a:off x="5181480" y="3524040"/>
              <a:ext cx="609840" cy="2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66"/>
            <p:cNvSpPr/>
            <p:nvPr/>
          </p:nvSpPr>
          <p:spPr>
            <a:xfrm flipV="1">
              <a:off x="4343400" y="5396040"/>
              <a:ext cx="609480" cy="5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67"/>
            <p:cNvSpPr/>
            <p:nvPr/>
          </p:nvSpPr>
          <p:spPr>
            <a:xfrm>
              <a:off x="1066680" y="5396400"/>
              <a:ext cx="68580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68"/>
            <p:cNvSpPr/>
            <p:nvPr/>
          </p:nvSpPr>
          <p:spPr>
            <a:xfrm>
              <a:off x="4343400" y="5958000"/>
              <a:ext cx="2286000" cy="9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69"/>
            <p:cNvSpPr/>
            <p:nvPr/>
          </p:nvSpPr>
          <p:spPr>
            <a:xfrm flipH="1">
              <a:off x="6781320" y="2120400"/>
              <a:ext cx="685800" cy="37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0"/>
            <p:cNvSpPr/>
            <p:nvPr/>
          </p:nvSpPr>
          <p:spPr>
            <a:xfrm flipH="1" flipV="1">
              <a:off x="7543440" y="2120400"/>
              <a:ext cx="609480" cy="74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1"/>
            <p:cNvSpPr/>
            <p:nvPr/>
          </p:nvSpPr>
          <p:spPr>
            <a:xfrm>
              <a:off x="5181480" y="286956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72"/>
            <p:cNvSpPr/>
            <p:nvPr/>
          </p:nvSpPr>
          <p:spPr>
            <a:xfrm flipH="1">
              <a:off x="8001000" y="3898800"/>
              <a:ext cx="380880" cy="112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73"/>
            <p:cNvSpPr/>
            <p:nvPr/>
          </p:nvSpPr>
          <p:spPr>
            <a:xfrm flipV="1">
              <a:off x="6781680" y="3056040"/>
              <a:ext cx="1295640" cy="28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74"/>
            <p:cNvSpPr/>
            <p:nvPr/>
          </p:nvSpPr>
          <p:spPr>
            <a:xfrm>
              <a:off x="2666880" y="4460400"/>
              <a:ext cx="1676520" cy="149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75"/>
            <p:cNvSpPr/>
            <p:nvPr/>
          </p:nvSpPr>
          <p:spPr>
            <a:xfrm flipV="1">
              <a:off x="3124080" y="2962440"/>
              <a:ext cx="4876920" cy="28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76"/>
            <p:cNvSpPr/>
            <p:nvPr/>
          </p:nvSpPr>
          <p:spPr>
            <a:xfrm>
              <a:off x="2590920" y="3150360"/>
              <a:ext cx="4190760" cy="27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Google Map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maps with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 time is based on how crowded the road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Picture 11.png"/>
          <p:cNvPicPr/>
          <p:nvPr/>
        </p:nvPicPr>
        <p:blipFill>
          <a:blip r:embed="rId1"/>
          <a:stretch/>
        </p:blipFill>
        <p:spPr>
          <a:xfrm>
            <a:off x="3276720" y="2438280"/>
            <a:ext cx="556884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Applying Social Network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e you could get your hands on any information you wan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s of “big picture” save-the-world problems could you solve using network analy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6019920" y="4114800"/>
            <a:ext cx="2828880" cy="23652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C:\Documents and Settings\kristen.WIN-CS\Desktop\twitter-social-network-analysis.jpg"/>
          <p:cNvPicPr/>
          <p:nvPr/>
        </p:nvPicPr>
        <p:blipFill>
          <a:blip r:embed="rId2"/>
          <a:stretch/>
        </p:blipFill>
        <p:spPr>
          <a:xfrm>
            <a:off x="380880" y="3727440"/>
            <a:ext cx="313056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3" descr=""/>
          <p:cNvPicPr/>
          <p:nvPr/>
        </p:nvPicPr>
        <p:blipFill>
          <a:blip r:embed="rId1"/>
          <a:stretch/>
        </p:blipFill>
        <p:spPr>
          <a:xfrm>
            <a:off x="152280" y="3886200"/>
            <a:ext cx="933480" cy="1057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1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669960" cy="128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0" descr=""/>
          <p:cNvPicPr/>
          <p:nvPr/>
        </p:nvPicPr>
        <p:blipFill>
          <a:blip r:embed="rId3"/>
          <a:stretch/>
        </p:blipFill>
        <p:spPr>
          <a:xfrm>
            <a:off x="5257800" y="1371600"/>
            <a:ext cx="644400" cy="1033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6" descr=""/>
          <p:cNvPicPr/>
          <p:nvPr/>
        </p:nvPicPr>
        <p:blipFill>
          <a:blip r:embed="rId4"/>
          <a:stretch/>
        </p:blipFill>
        <p:spPr>
          <a:xfrm>
            <a:off x="7620120" y="3048120"/>
            <a:ext cx="1028520" cy="952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iendships on a graph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586880" y="1636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83760" y="3429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73800" y="1905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6937200" y="30481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5870160" y="48769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l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4345920" y="579132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507480" y="3581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1069200" y="5943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 flipH="1">
            <a:off x="1295280" y="1981080"/>
            <a:ext cx="45720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990720" y="3809880"/>
            <a:ext cx="6858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2133720" y="6019560"/>
            <a:ext cx="22096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4038480" y="3962520"/>
            <a:ext cx="53352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>
            <a:off x="1219320" y="3809880"/>
            <a:ext cx="31240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7"/>
          <p:cNvSpPr/>
          <p:nvPr/>
        </p:nvSpPr>
        <p:spPr>
          <a:xfrm>
            <a:off x="1371600" y="3657600"/>
            <a:ext cx="21337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"/>
          <p:cNvSpPr/>
          <p:nvPr/>
        </p:nvSpPr>
        <p:spPr>
          <a:xfrm>
            <a:off x="2057400" y="1981080"/>
            <a:ext cx="16002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9"/>
          <p:cNvSpPr/>
          <p:nvPr/>
        </p:nvSpPr>
        <p:spPr>
          <a:xfrm>
            <a:off x="2438280" y="1828800"/>
            <a:ext cx="2133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0"/>
          <p:cNvSpPr/>
          <p:nvPr/>
        </p:nvSpPr>
        <p:spPr>
          <a:xfrm flipV="1">
            <a:off x="4191120" y="22096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1"/>
          <p:cNvSpPr/>
          <p:nvPr/>
        </p:nvSpPr>
        <p:spPr>
          <a:xfrm>
            <a:off x="5105520" y="220968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 flipH="1">
            <a:off x="6400440" y="327672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 flipH="1">
            <a:off x="4800240" y="51055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4" descr=""/>
          <p:cNvPicPr/>
          <p:nvPr/>
        </p:nvPicPr>
        <p:blipFill>
          <a:blip r:embed="rId5"/>
          <a:stretch/>
        </p:blipFill>
        <p:spPr>
          <a:xfrm>
            <a:off x="6705720" y="4876920"/>
            <a:ext cx="74592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"/>
          <p:cNvPicPr/>
          <p:nvPr/>
        </p:nvPicPr>
        <p:blipFill>
          <a:blip r:embed="rId6"/>
          <a:stretch/>
        </p:blipFill>
        <p:spPr>
          <a:xfrm>
            <a:off x="304920" y="5688000"/>
            <a:ext cx="838080" cy="828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9" descr=""/>
          <p:cNvPicPr/>
          <p:nvPr/>
        </p:nvPicPr>
        <p:blipFill>
          <a:blip r:embed="rId7"/>
          <a:stretch/>
        </p:blipFill>
        <p:spPr>
          <a:xfrm>
            <a:off x="3581280" y="2209680"/>
            <a:ext cx="603360" cy="1371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2" descr=""/>
          <p:cNvPicPr/>
          <p:nvPr/>
        </p:nvPicPr>
        <p:blipFill>
          <a:blip r:embed="rId8"/>
          <a:stretch/>
        </p:blipFill>
        <p:spPr>
          <a:xfrm>
            <a:off x="5029200" y="5653080"/>
            <a:ext cx="768240" cy="1204920"/>
          </a:xfrm>
          <a:prstGeom prst="rect">
            <a:avLst/>
          </a:prstGeom>
          <a:ln w="0">
            <a:noFill/>
          </a:ln>
        </p:spPr>
      </p:pic>
      <p:sp>
        <p:nvSpPr>
          <p:cNvPr id="152" name="Line 34"/>
          <p:cNvSpPr/>
          <p:nvPr/>
        </p:nvSpPr>
        <p:spPr>
          <a:xfrm flipH="1">
            <a:off x="4647960" y="2286000"/>
            <a:ext cx="22860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Number of friend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graph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node is the number of edges attached to the n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graph represents the connections between friends, then the degree is the same as the number of frien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number of friends for each per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62120" y="4038480"/>
          <a:ext cx="7391160" cy="177192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  <a:gridCol w="1847520"/>
                <a:gridCol w="1847880"/>
              </a:tblGrid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n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h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trong friendship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friendship could be defined as the number of common friends that the two people 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strength of each friendship in the grap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nders and Li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gie and Hom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house and Ba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ll the people in the Simpsons graph, whose friendship is strong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e an algorithm for finding the strongest friend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iends of friend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book’s “people you might know” feature is based on looking for friends of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n algorithm that (based on friends of friends) could be used to determine the “people you might know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person in the graph, who would be recommend at the top of the “people you might know” l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5076720"/>
          <a:ext cx="8229600" cy="1478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n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h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Degrees of separa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social network, the “degrees of separation” is the smallest number of people “in between” two people who are not friends with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degree of separation between each pair of na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ge and Ralp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gie and Milho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nders and Ba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Algorithms for shortest path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, the degree of separation between two nodes can be referred to as the “shortest path dista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n algorithm to find the shortest path from one node in a graph to all the other no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write an algorithm that finds the shortest path betw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irs of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hortest path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parts of your solution to the first question be reused for the seco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219320" y="200016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Bacon and Erdös Number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far are you from Kevin Bac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oracleofbacon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far are you from Paul Er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dos wrote over 1,500 papers, with 450 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xkcd.com/599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4:17:28Z</dcterms:created>
  <dc:creator>kristen</dc:creator>
  <dc:description/>
  <dc:language>en-US</dc:language>
  <cp:lastModifiedBy>Arthi Ramachandran</cp:lastModifiedBy>
  <dcterms:modified xsi:type="dcterms:W3CDTF">2010-10-25T14:46:01Z</dcterms:modified>
  <cp:revision>89</cp:revision>
  <dc:subject/>
  <dc:title>Slide 1</dc:title>
</cp:coreProperties>
</file>